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4BAC-57FF-4F5B-BE23-AF759EBFD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24F1-F471-4CD7-AA86-3A3C41555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E7AD-EBE8-4CCE-8CBB-6F7F8A3A3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6876-FE84-4F4E-B4F7-87F85C396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2EE7-41D6-4295-8501-92DFFFF3E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3268-7F32-43EA-9BF4-62DC51856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7EAE-AE3E-4466-9C67-A7CFCF7BC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B9A3-D1D1-465F-B44B-9B4A30515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C0D1-23E5-4FFB-B325-FDF720E70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7110-C657-4742-9C47-FFB3C997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C272-0EFE-4F7A-B9A9-A61C0247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7115-608E-4356-889F-35B7616F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17D25-D998-4D6A-881C-9F10CC2066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 CYR"/>
              </a:rPr>
              <a:t>Правовое обеспечение сертификации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по Федеральному Закону «О техническом регулировании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920" y="16765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9933"/>
                </a:solidFill>
                <a:latin typeface="Arial CYR"/>
                <a:ea typeface="Times New Roman"/>
              </a:rPr>
              <a:t>Цели подтверждения соответствия</a:t>
            </a:r>
            <a:r>
              <a:rPr b="1" lang="ru-RU" sz="2000" spc="-1" strike="noStrike">
                <a:solidFill>
                  <a:srgbClr val="339933"/>
                </a:solidFill>
                <a:latin typeface="Arial CYR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 CY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9933"/>
                </a:solidFill>
                <a:latin typeface="Arial CYR"/>
                <a:ea typeface="Times New Roman"/>
              </a:rPr>
              <a:t>удостоверения соответствия продукции</a:t>
            </a:r>
            <a:r>
              <a:rPr b="0" i="1" lang="ru-RU" sz="1800" spc="-1" strike="noStrike">
                <a:solidFill>
                  <a:srgbClr val="800000"/>
                </a:solidFill>
                <a:latin typeface="Arial CYR"/>
                <a:ea typeface="Times New Roman"/>
              </a:rPr>
              <a:t>, процессов производства, эксплуатации, хранения, перевозки, реализации и утилизации, работ, услуг или иных объектов техническим регламентам, </a:t>
            </a:r>
            <a:r>
              <a:rPr b="0" i="1" lang="ru-RU" sz="1800" spc="-1" strike="noStrike">
                <a:solidFill>
                  <a:srgbClr val="339933"/>
                </a:solidFill>
                <a:latin typeface="Arial CYR"/>
                <a:ea typeface="Times New Roman"/>
              </a:rPr>
              <a:t>стандартам, условиям договоров;</a:t>
            </a:r>
            <a:br>
              <a:rPr sz="1800"/>
            </a:br>
            <a:r>
              <a:rPr b="0" i="1" lang="ru-RU" sz="1800" spc="-1" strike="noStrike">
                <a:solidFill>
                  <a:srgbClr val="800000"/>
                </a:solidFill>
                <a:latin typeface="Times New Roman"/>
              </a:rPr>
              <a:t>- </a:t>
            </a:r>
            <a:r>
              <a:rPr b="0" i="1" lang="ru-RU" sz="1800" spc="-1" strike="noStrike">
                <a:solidFill>
                  <a:srgbClr val="339933"/>
                </a:solidFill>
                <a:latin typeface="Arial CYR"/>
                <a:ea typeface="Times New Roman"/>
              </a:rPr>
              <a:t>содействи</a:t>
            </a:r>
            <a:r>
              <a:rPr b="0" i="1" lang="ru-RU" sz="1800" spc="-1" strike="noStrike">
                <a:solidFill>
                  <a:srgbClr val="339933"/>
                </a:solidFill>
                <a:latin typeface="Arial CYR"/>
              </a:rPr>
              <a:t>е</a:t>
            </a:r>
            <a:r>
              <a:rPr b="0" i="1" lang="ru-RU" sz="1800" spc="-1" strike="noStrike">
                <a:solidFill>
                  <a:srgbClr val="339933"/>
                </a:solidFill>
                <a:latin typeface="Arial CYR"/>
                <a:ea typeface="Times New Roman"/>
              </a:rPr>
              <a:t> приобретателям в компетентном выборе продукции</a:t>
            </a:r>
            <a:r>
              <a:rPr b="0" i="1" lang="ru-RU" sz="1800" spc="-1" strike="noStrike">
                <a:solidFill>
                  <a:srgbClr val="800000"/>
                </a:solidFill>
                <a:latin typeface="Arial CYR"/>
                <a:ea typeface="Times New Roman"/>
              </a:rPr>
              <a:t>, работ, услуг;</a:t>
            </a:r>
            <a:br>
              <a:rPr sz="1800"/>
            </a:br>
            <a:r>
              <a:rPr b="0" i="1" lang="ru-RU" sz="1800" spc="-1" strike="noStrike">
                <a:solidFill>
                  <a:srgbClr val="800000"/>
                </a:solidFill>
                <a:latin typeface="Times New Roman"/>
              </a:rPr>
              <a:t>- </a:t>
            </a:r>
            <a:r>
              <a:rPr b="0" i="1" lang="ru-RU" sz="1800" spc="-1" strike="noStrike">
                <a:solidFill>
                  <a:srgbClr val="339933"/>
                </a:solidFill>
                <a:latin typeface="Arial CYR"/>
                <a:ea typeface="Times New Roman"/>
              </a:rPr>
              <a:t>повышени</a:t>
            </a:r>
            <a:r>
              <a:rPr b="0" i="1" lang="ru-RU" sz="1800" spc="-1" strike="noStrike">
                <a:solidFill>
                  <a:srgbClr val="339933"/>
                </a:solidFill>
                <a:latin typeface="Arial CYR"/>
              </a:rPr>
              <a:t>е</a:t>
            </a:r>
            <a:r>
              <a:rPr b="0" i="1" lang="ru-RU" sz="1800" spc="-1" strike="noStrike">
                <a:solidFill>
                  <a:srgbClr val="339933"/>
                </a:solidFill>
                <a:latin typeface="Arial CYR"/>
                <a:ea typeface="Times New Roman"/>
              </a:rPr>
              <a:t> конкурентоспособности продукции</a:t>
            </a:r>
            <a:r>
              <a:rPr b="0" i="1" lang="ru-RU" sz="1800" spc="-1" strike="noStrike">
                <a:solidFill>
                  <a:srgbClr val="800000"/>
                </a:solidFill>
                <a:latin typeface="Arial CYR"/>
                <a:ea typeface="Times New Roman"/>
              </a:rPr>
              <a:t>, работ, услуг </a:t>
            </a:r>
            <a:r>
              <a:rPr b="0" i="1" lang="ru-RU" sz="1800" spc="-1" strike="noStrike">
                <a:solidFill>
                  <a:srgbClr val="339933"/>
                </a:solidFill>
                <a:latin typeface="Arial CYR"/>
                <a:ea typeface="Times New Roman"/>
              </a:rPr>
              <a:t>на российском</a:t>
            </a:r>
            <a:r>
              <a:rPr b="0" i="1" lang="ru-RU" sz="1800" spc="-1" strike="noStrike">
                <a:solidFill>
                  <a:srgbClr val="800000"/>
                </a:solidFill>
                <a:latin typeface="Arial CYR"/>
                <a:ea typeface="Times New Roman"/>
              </a:rPr>
              <a:t> и международном</a:t>
            </a:r>
            <a:r>
              <a:rPr b="0" i="1" lang="ru-RU" sz="1800" spc="-1" strike="noStrike">
                <a:solidFill>
                  <a:srgbClr val="339933"/>
                </a:solidFill>
                <a:latin typeface="Arial CYR"/>
                <a:ea typeface="Times New Roman"/>
              </a:rPr>
              <a:t> рынках</a:t>
            </a:r>
            <a:r>
              <a:rPr b="0" i="1" lang="ru-RU" sz="1800" spc="-1" strike="noStrike">
                <a:solidFill>
                  <a:srgbClr val="800000"/>
                </a:solidFill>
                <a:latin typeface="Arial CYR"/>
                <a:ea typeface="Times New Roman"/>
              </a:rPr>
              <a:t>;</a:t>
            </a:r>
            <a:br>
              <a:rPr sz="1800"/>
            </a:br>
            <a:r>
              <a:rPr b="0" i="1" lang="ru-RU" sz="1800" spc="-1" strike="noStrike">
                <a:solidFill>
                  <a:srgbClr val="800000"/>
                </a:solidFill>
                <a:latin typeface="Times New Roman"/>
              </a:rPr>
              <a:t>- </a:t>
            </a:r>
            <a:r>
              <a:rPr b="0" i="1" lang="ru-RU" sz="1800" spc="-1" strike="noStrike">
                <a:solidFill>
                  <a:srgbClr val="339933"/>
                </a:solidFill>
                <a:latin typeface="Arial CYR"/>
                <a:ea typeface="Times New Roman"/>
              </a:rPr>
              <a:t>создани</a:t>
            </a:r>
            <a:r>
              <a:rPr b="0" i="1" lang="ru-RU" sz="1800" spc="-1" strike="noStrike">
                <a:solidFill>
                  <a:srgbClr val="339933"/>
                </a:solidFill>
                <a:latin typeface="Arial CYR"/>
              </a:rPr>
              <a:t>е</a:t>
            </a:r>
            <a:r>
              <a:rPr b="0" i="1" lang="ru-RU" sz="1800" spc="-1" strike="noStrike">
                <a:solidFill>
                  <a:srgbClr val="339933"/>
                </a:solidFill>
                <a:latin typeface="Arial CYR"/>
                <a:ea typeface="Times New Roman"/>
              </a:rPr>
              <a:t> условий для обеспечения свободного перемещения товаров по территории Российской Федерации</a:t>
            </a:r>
            <a:r>
              <a:rPr b="0" i="1" lang="ru-RU" sz="1800" spc="-1" strike="noStrike">
                <a:solidFill>
                  <a:srgbClr val="800000"/>
                </a:solidFill>
                <a:latin typeface="Arial CYR"/>
                <a:ea typeface="Times New Roman"/>
              </a:rPr>
              <a:t>, а также для осуществления международного экономичес</a:t>
            </a:r>
            <a:r>
              <a:rPr b="0" i="1" lang="ru-RU" sz="1800" spc="-1" strike="noStrike">
                <a:solidFill>
                  <a:srgbClr val="800000"/>
                </a:solidFill>
                <a:latin typeface="Arial CYR"/>
              </a:rPr>
              <a:t>-</a:t>
            </a:r>
            <a:r>
              <a:rPr b="0" i="1" lang="ru-RU" sz="1800" spc="-1" strike="noStrike">
                <a:solidFill>
                  <a:srgbClr val="800000"/>
                </a:solidFill>
                <a:latin typeface="Arial CYR"/>
                <a:ea typeface="Times New Roman"/>
              </a:rPr>
              <a:t>кого, научно-технического сотрудничества и </a:t>
            </a:r>
            <a:r>
              <a:rPr b="0" i="1" lang="ru-RU" sz="1800" spc="-1" strike="noStrike">
                <a:solidFill>
                  <a:srgbClr val="339933"/>
                </a:solidFill>
                <a:latin typeface="Arial CYR"/>
                <a:ea typeface="Times New Roman"/>
              </a:rPr>
              <a:t>международной торговли</a:t>
            </a:r>
            <a:r>
              <a:rPr b="0" i="1" lang="ru-RU" sz="1800" spc="-1" strike="noStrike">
                <a:solidFill>
                  <a:srgbClr val="800000"/>
                </a:solidFill>
                <a:latin typeface="Arial CYR"/>
                <a:ea typeface="Times New Roman"/>
              </a:rPr>
              <a:t>.</a:t>
            </a: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.Н.Васильев, эксперт по сертификации радиоэлектронной техники и средств связ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истемы сертификации ГОСТ 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143000" y="5943600"/>
          <a:ext cx="1371600" cy="71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5943600"/>
                    <a:ext cx="13716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1500120" y="3124080"/>
            <a:ext cx="1598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568520" y="2316240"/>
            <a:ext cx="6076800" cy="853920"/>
            <a:chOff x="1568520" y="2316240"/>
            <a:chExt cx="6076800" cy="853920"/>
          </a:xfrm>
        </p:grpSpPr>
        <p:sp>
          <p:nvSpPr>
            <p:cNvPr id="47" name=""/>
            <p:cNvSpPr/>
            <p:nvPr/>
          </p:nvSpPr>
          <p:spPr>
            <a:xfrm>
              <a:off x="1568520" y="2316240"/>
              <a:ext cx="159840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166920" y="2316240"/>
              <a:ext cx="279108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958000" y="2316240"/>
              <a:ext cx="168732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0" name="Eanrus1" descr=""/>
          <p:cNvPicPr/>
          <p:nvPr/>
        </p:nvPicPr>
        <p:blipFill>
          <a:blip r:embed="rId3"/>
          <a:stretch/>
        </p:blipFill>
        <p:spPr>
          <a:xfrm>
            <a:off x="7162920" y="5867280"/>
            <a:ext cx="1685880" cy="762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956800" y="3733920"/>
            <a:ext cx="168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3657600" y="6172200"/>
            <a:ext cx="273060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 CYR"/>
              </a:rPr>
              <a:t>Система добровольной сертификации средств автоматической идентификации (СС САИ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304920" y="1752480"/>
            <a:ext cx="85341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143000" y="5943600"/>
          <a:ext cx="1371600" cy="71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5943600"/>
                    <a:ext cx="13716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1500120" y="3124080"/>
            <a:ext cx="1598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568520" y="2316240"/>
            <a:ext cx="6076800" cy="853920"/>
            <a:chOff x="1568520" y="2316240"/>
            <a:chExt cx="6076800" cy="853920"/>
          </a:xfrm>
        </p:grpSpPr>
        <p:sp>
          <p:nvSpPr>
            <p:cNvPr id="159" name=""/>
            <p:cNvSpPr/>
            <p:nvPr/>
          </p:nvSpPr>
          <p:spPr>
            <a:xfrm>
              <a:off x="1568520" y="2316240"/>
              <a:ext cx="159840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166920" y="2316240"/>
              <a:ext cx="279108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958000" y="2316240"/>
              <a:ext cx="168732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2" name="Eanrus1" descr=""/>
          <p:cNvPicPr/>
          <p:nvPr/>
        </p:nvPicPr>
        <p:blipFill>
          <a:blip r:embed="rId3"/>
          <a:stretch/>
        </p:blipFill>
        <p:spPr>
          <a:xfrm>
            <a:off x="7162920" y="5867280"/>
            <a:ext cx="1685880" cy="7621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8956800" y="3733920"/>
            <a:ext cx="168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3657600" y="6172200"/>
            <a:ext cx="2730600" cy="4446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457200" y="1295280"/>
            <a:ext cx="8229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ОБЩИЕ ПОЛОЖЕНИ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1676520"/>
            <a:ext cx="830592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Сертификация продукции в СС САИ проводится на соответствие требованиям нормативных документов, указанных заявителе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 CYR"/>
              </a:rPr>
              <a:t>Система добровольной сертификации средств автоматической идентификации (СС САИ)</a:t>
            </a:r>
            <a:br>
              <a:rPr sz="2400"/>
            </a:b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СТРУКТУРА СИСТЕМ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04920" y="1752480"/>
            <a:ext cx="85341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143000" y="5943600"/>
          <a:ext cx="1371600" cy="71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5943600"/>
                    <a:ext cx="13716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1500120" y="3124080"/>
            <a:ext cx="1598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1568520" y="2316240"/>
            <a:ext cx="6076800" cy="853920"/>
            <a:chOff x="1568520" y="2316240"/>
            <a:chExt cx="6076800" cy="853920"/>
          </a:xfrm>
        </p:grpSpPr>
        <p:sp>
          <p:nvSpPr>
            <p:cNvPr id="173" name=""/>
            <p:cNvSpPr/>
            <p:nvPr/>
          </p:nvSpPr>
          <p:spPr>
            <a:xfrm>
              <a:off x="1568520" y="2316240"/>
              <a:ext cx="159840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166920" y="2316240"/>
              <a:ext cx="279108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958000" y="2316240"/>
              <a:ext cx="168732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6" name="Eanrus1" descr=""/>
          <p:cNvPicPr/>
          <p:nvPr/>
        </p:nvPicPr>
        <p:blipFill>
          <a:blip r:embed="rId3"/>
          <a:stretch/>
        </p:blipFill>
        <p:spPr>
          <a:xfrm>
            <a:off x="7162920" y="5867280"/>
            <a:ext cx="1685880" cy="7621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8956800" y="3733920"/>
            <a:ext cx="168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3657600" y="6172200"/>
            <a:ext cx="2730600" cy="4446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457200" y="1295280"/>
            <a:ext cx="8229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1676520"/>
            <a:ext cx="8305920" cy="39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Организационную структуру СС САИ составляют</a:t>
            </a:r>
            <a:r>
              <a:rPr b="0" lang="ru-RU" sz="16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539640" algn="just">
              <a:lnSpc>
                <a:spcPct val="180000"/>
              </a:lnSpc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ААИ ЮНИСКАН - юридическое лицо, образовавшее СС САИ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539640" algn="just">
              <a:lnSpc>
                <a:spcPct val="180000"/>
              </a:lnSpc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центральный орган </a:t>
            </a:r>
            <a:r>
              <a:rPr b="1" lang="en-US" sz="16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ru-RU" sz="1600" spc="-1" strike="noStrike">
                <a:solidFill>
                  <a:srgbClr val="339933"/>
                </a:solidFill>
                <a:latin typeface="Times New Roman"/>
              </a:rPr>
              <a:t>ЦО) </a:t>
            </a:r>
            <a:r>
              <a:rPr b="1" lang="ru-RU" sz="16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на базе юридического лица, образовавшего систему </a:t>
            </a:r>
            <a:r>
              <a:rPr b="1" lang="ru-RU" sz="1600" spc="-1" strike="noStrike">
                <a:solidFill>
                  <a:srgbClr val="339933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339933"/>
                </a:solidFill>
                <a:latin typeface="Times New Roman"/>
              </a:rPr>
              <a:t>д</a:t>
            </a:r>
            <a:r>
              <a:rPr b="1" lang="ru-RU" sz="16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обровольной сертификации - ААИ ЮНИСКАН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539640" algn="just">
              <a:lnSpc>
                <a:spcPct val="180000"/>
              </a:lnSpc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научно-методический центр</a:t>
            </a:r>
            <a:r>
              <a:rPr b="1" lang="ru-RU" sz="1600" spc="-1" strike="noStrike">
                <a:solidFill>
                  <a:srgbClr val="339933"/>
                </a:solidFill>
                <a:latin typeface="Times New Roman"/>
              </a:rPr>
              <a:t> (МНЦ) </a:t>
            </a:r>
            <a:r>
              <a:rPr b="1" lang="ru-RU" sz="16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- подразделение ААИ ЮНИСКАН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539640" algn="just">
              <a:lnSpc>
                <a:spcPct val="180000"/>
              </a:lnSpc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9933"/>
                </a:solidFill>
                <a:latin typeface="Times New Roman"/>
              </a:rPr>
              <a:t>Уполномоченные О</a:t>
            </a:r>
            <a:r>
              <a:rPr b="1" lang="ru-RU" sz="16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рганы по сертификации</a:t>
            </a:r>
            <a:r>
              <a:rPr b="1" lang="ru-RU" sz="1600" spc="-1" strike="noStrike">
                <a:solidFill>
                  <a:srgbClr val="339933"/>
                </a:solidFill>
                <a:latin typeface="Times New Roman"/>
              </a:rPr>
              <a:t> (ОС)</a:t>
            </a:r>
            <a:r>
              <a:rPr b="1" lang="ru-RU" sz="16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539640" algn="just">
              <a:lnSpc>
                <a:spcPct val="180000"/>
              </a:lnSpc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9933"/>
                </a:solidFill>
                <a:latin typeface="Times New Roman"/>
              </a:rPr>
              <a:t>Аккредитованные </a:t>
            </a:r>
            <a:r>
              <a:rPr b="1" lang="ru-RU" sz="16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испытательные лаборатории</a:t>
            </a:r>
            <a:r>
              <a:rPr b="1" lang="ru-RU" sz="1600" spc="-1" strike="noStrike">
                <a:solidFill>
                  <a:srgbClr val="339933"/>
                </a:solidFill>
                <a:latin typeface="Times New Roman"/>
              </a:rPr>
              <a:t> (ИЛ)</a:t>
            </a:r>
            <a:r>
              <a:rPr b="1" lang="ru-RU" sz="16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 CYR"/>
              </a:rPr>
              <a:t>Система добровольной сертификации средств автоматической идентификации (СС САИ)</a:t>
            </a:r>
            <a:br>
              <a:rPr sz="2400"/>
            </a:b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СТРУКТУРА СИСТЕМ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304920" y="1752480"/>
            <a:ext cx="85341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143000" y="5943600"/>
          <a:ext cx="1371600" cy="71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5943600"/>
                    <a:ext cx="13716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1500120" y="3124080"/>
            <a:ext cx="1598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568520" y="2316240"/>
            <a:ext cx="6076800" cy="853920"/>
            <a:chOff x="1568520" y="2316240"/>
            <a:chExt cx="6076800" cy="853920"/>
          </a:xfrm>
        </p:grpSpPr>
        <p:sp>
          <p:nvSpPr>
            <p:cNvPr id="187" name=""/>
            <p:cNvSpPr/>
            <p:nvPr/>
          </p:nvSpPr>
          <p:spPr>
            <a:xfrm>
              <a:off x="1568520" y="2316240"/>
              <a:ext cx="159840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166920" y="2316240"/>
              <a:ext cx="279108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958000" y="2316240"/>
              <a:ext cx="168732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0" name="Eanrus1" descr=""/>
          <p:cNvPicPr/>
          <p:nvPr/>
        </p:nvPicPr>
        <p:blipFill>
          <a:blip r:embed="rId3"/>
          <a:stretch/>
        </p:blipFill>
        <p:spPr>
          <a:xfrm>
            <a:off x="7162920" y="5867280"/>
            <a:ext cx="1685880" cy="7621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8956800" y="3733920"/>
            <a:ext cx="168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3657600" y="6172200"/>
            <a:ext cx="2730600" cy="4446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457200" y="1295280"/>
            <a:ext cx="8229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1676520"/>
            <a:ext cx="8305920" cy="39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 должны удовлетворять следующим условиям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539640" algn="just">
              <a:lnSpc>
                <a:spcPct val="175000"/>
              </a:lnSpc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иметь в штате ОС экспертов по сертификации продукции, имеющими соответствующее образование и стаж работы в области сертификации продукции не менее 3 лет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539640" algn="just">
              <a:lnSpc>
                <a:spcPct val="175000"/>
              </a:lnSpc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иметь в наличии документированную систему качества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539640" algn="just">
              <a:lnSpc>
                <a:spcPct val="175000"/>
              </a:lnSpc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иметь в распоряжении нормативные документы в соответствии с перечнем видов сертифицируемой продукции и параметров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 CYR"/>
              </a:rPr>
              <a:t>Система добровольной сертификации средств автоматической идентификации (СС САИ)</a:t>
            </a:r>
            <a:br>
              <a:rPr sz="2400"/>
            </a:b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ПОРЯДОК СЕРТИФИКАЦИИ ПРОДУК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304920" y="1752480"/>
            <a:ext cx="85341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143000" y="5943600"/>
          <a:ext cx="1371600" cy="71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5943600"/>
                    <a:ext cx="13716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1500120" y="3124080"/>
            <a:ext cx="1598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1568520" y="2316240"/>
            <a:ext cx="6076800" cy="853920"/>
            <a:chOff x="1568520" y="2316240"/>
            <a:chExt cx="6076800" cy="853920"/>
          </a:xfrm>
        </p:grpSpPr>
        <p:sp>
          <p:nvSpPr>
            <p:cNvPr id="201" name=""/>
            <p:cNvSpPr/>
            <p:nvPr/>
          </p:nvSpPr>
          <p:spPr>
            <a:xfrm>
              <a:off x="1568520" y="2316240"/>
              <a:ext cx="159840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166920" y="2316240"/>
              <a:ext cx="279108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58000" y="2316240"/>
              <a:ext cx="168732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04" name="Eanrus1" descr=""/>
          <p:cNvPicPr/>
          <p:nvPr/>
        </p:nvPicPr>
        <p:blipFill>
          <a:blip r:embed="rId3"/>
          <a:stretch/>
        </p:blipFill>
        <p:spPr>
          <a:xfrm>
            <a:off x="7162920" y="5867280"/>
            <a:ext cx="1685880" cy="76212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8956800" y="3733920"/>
            <a:ext cx="168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3657600" y="6172200"/>
            <a:ext cx="2730600" cy="4446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457200" y="1295280"/>
            <a:ext cx="8229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1676520"/>
            <a:ext cx="8305920" cy="40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Сертификация продукции включает следующие этапы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539640"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подача заявки на сертификацию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539640"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принятие решения по заявке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539640"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отбор и идентификация образцов, их испытания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539640"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анализ состояния производства или сертификация системы качества</a:t>
            </a:r>
            <a:r>
              <a:rPr b="1" lang="en-US" sz="1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если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смотрено схемой сертификации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539640"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принятие решения о возможности выдачи сертификата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539640"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оформление сертификата и разрешения на применение знака соответствия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539640"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регистрация сертификата в Реестре СС САИ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539640"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проведение инспекционного контроля за сертифицированной продукцией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если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едусмотрено схемой сертификации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539640"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проведение корректирующих мероприятий в случаях нарушения </a:t>
            </a:r>
            <a:r>
              <a:rPr b="1" lang="en-US" sz="1600" spc="-1" strike="noStrike">
                <a:solidFill>
                  <a:srgbClr val="339933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установленных требований к сертифицированной продукции или правил </a:t>
            </a:r>
            <a:r>
              <a:rPr b="1" lang="en-US" sz="1600" spc="-1" strike="noStrike">
                <a:solidFill>
                  <a:srgbClr val="339933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применения знака СС САИ</a:t>
            </a:r>
            <a:r>
              <a:rPr b="1" lang="en-US" sz="1600" spc="-1" strike="noStrike">
                <a:solidFill>
                  <a:srgbClr val="339933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 CYR"/>
              </a:rPr>
              <a:t>Система добровольной сертификации средств автоматической идентификации (СС САИ)</a:t>
            </a:r>
            <a:br>
              <a:rPr sz="2400"/>
            </a:b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НОРМАТИВНАЯ БАЗА СИСТЕ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304920" y="1752480"/>
            <a:ext cx="85341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1143000" y="5943600"/>
          <a:ext cx="1371600" cy="71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5943600"/>
                    <a:ext cx="13716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1500120" y="3124080"/>
            <a:ext cx="1598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1568520" y="2316240"/>
            <a:ext cx="6076800" cy="853920"/>
            <a:chOff x="1568520" y="2316240"/>
            <a:chExt cx="6076800" cy="853920"/>
          </a:xfrm>
        </p:grpSpPr>
        <p:sp>
          <p:nvSpPr>
            <p:cNvPr id="215" name=""/>
            <p:cNvSpPr/>
            <p:nvPr/>
          </p:nvSpPr>
          <p:spPr>
            <a:xfrm>
              <a:off x="1568520" y="2316240"/>
              <a:ext cx="159840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66920" y="2316240"/>
              <a:ext cx="279108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958000" y="2316240"/>
              <a:ext cx="168732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8" name="Eanrus1" descr=""/>
          <p:cNvPicPr/>
          <p:nvPr/>
        </p:nvPicPr>
        <p:blipFill>
          <a:blip r:embed="rId3"/>
          <a:stretch/>
        </p:blipFill>
        <p:spPr>
          <a:xfrm>
            <a:off x="7162920" y="5867280"/>
            <a:ext cx="1685880" cy="7621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8956800" y="3733920"/>
            <a:ext cx="168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3657600" y="6172200"/>
            <a:ext cx="2730600" cy="4446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457200" y="1295280"/>
            <a:ext cx="8229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1676520"/>
            <a:ext cx="830592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Деятельность Системы сертификации средств автоматической идентификации базируется на следующих основных нормативных документах применительно к номенклатуре продукции, сертифицируемой в СС САИ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539640"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Государственные (ГОСТ Р) и межгосударственные (ГОСТ) стандарты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539640"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Международные стандарты серии ISO 900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539640"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Международные стандарты ИСО/МЭК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Европейские стандарты </a:t>
            </a:r>
            <a:r>
              <a:rPr b="0" lang="en-US" sz="1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CEN</a:t>
            </a:r>
            <a:r>
              <a:rPr b="0" lang="ru-RU" sz="1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(</a:t>
            </a:r>
            <a:r>
              <a:rPr b="0" lang="en-US" sz="1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N</a:t>
            </a:r>
            <a:r>
              <a:rPr b="0" lang="ru-RU" sz="1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539640"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9933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Международные стандарты (технические спецификации) </a:t>
            </a:r>
            <a:r>
              <a:rPr b="0" lang="en-US" sz="1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AIM Inc</a:t>
            </a:r>
            <a:r>
              <a:rPr b="0" lang="ru-RU" sz="1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. и </a:t>
            </a:r>
            <a:r>
              <a:rPr b="0" lang="en-US" sz="1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AN International</a:t>
            </a:r>
            <a:r>
              <a:rPr b="0" lang="ru-RU" sz="1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 CYR"/>
              </a:rPr>
              <a:t>Система добровольной сертификации средств автоматической идентификации (СС САИ)</a:t>
            </a:r>
            <a:br>
              <a:rPr sz="2400"/>
            </a:br>
            <a:r>
              <a:rPr b="1" lang="en-US" sz="16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ПРИЗНАНИЕ  РЕЗУЛЬТАТОВ  ИСПЫТАНИИ  И </a:t>
            </a:r>
            <a:br>
              <a:rPr sz="1600"/>
            </a:br>
            <a:r>
              <a:rPr b="1" lang="en-US" sz="16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СЕРТИФИКАТОВ </a:t>
            </a:r>
            <a:r>
              <a:rPr b="1" lang="en-US" sz="1600" spc="-1" strike="noStrike">
                <a:solidFill>
                  <a:srgbClr val="339933"/>
                </a:solidFill>
                <a:latin typeface="Times New Roman"/>
              </a:rPr>
              <a:t>(ДЕКЛАРАЦИЙ О ПОДТВЕРЖДЕНИИ СООТВЕТСТВИЯ) </a:t>
            </a:r>
            <a:r>
              <a:rPr b="1" lang="en-US" sz="16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ДРУГИХ СИСТЕМ СЕРТИФИКАЦИИ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304920" y="1752480"/>
            <a:ext cx="85341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143000" y="5943600"/>
          <a:ext cx="1371600" cy="71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5943600"/>
                    <a:ext cx="13716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"/>
          <p:cNvSpPr/>
          <p:nvPr/>
        </p:nvSpPr>
        <p:spPr>
          <a:xfrm>
            <a:off x="1500120" y="3124080"/>
            <a:ext cx="1598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1568520" y="2316240"/>
            <a:ext cx="6076800" cy="853920"/>
            <a:chOff x="1568520" y="2316240"/>
            <a:chExt cx="6076800" cy="853920"/>
          </a:xfrm>
        </p:grpSpPr>
        <p:sp>
          <p:nvSpPr>
            <p:cNvPr id="229" name=""/>
            <p:cNvSpPr/>
            <p:nvPr/>
          </p:nvSpPr>
          <p:spPr>
            <a:xfrm>
              <a:off x="1568520" y="2316240"/>
              <a:ext cx="159840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166920" y="2316240"/>
              <a:ext cx="279108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958000" y="2316240"/>
              <a:ext cx="168732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2" name="Eanrus1" descr=""/>
          <p:cNvPicPr/>
          <p:nvPr/>
        </p:nvPicPr>
        <p:blipFill>
          <a:blip r:embed="rId3"/>
          <a:stretch/>
        </p:blipFill>
        <p:spPr>
          <a:xfrm>
            <a:off x="7162920" y="5867280"/>
            <a:ext cx="1685880" cy="7621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8956800" y="3733920"/>
            <a:ext cx="168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4"/>
          <a:stretch/>
        </p:blipFill>
        <p:spPr>
          <a:xfrm>
            <a:off x="3657600" y="6172200"/>
            <a:ext cx="2730600" cy="4446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457200" y="1295280"/>
            <a:ext cx="8229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1905120"/>
            <a:ext cx="84582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539640"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Протокол испытаний лаборатории, аккредитованной в другой сис</a:t>
            </a:r>
            <a:r>
              <a:rPr b="0" lang="ru-RU" sz="2000" spc="-1" strike="noStrike">
                <a:solidFill>
                  <a:srgbClr val="339933"/>
                </a:solidFill>
                <a:latin typeface="Times New Roman"/>
              </a:rPr>
              <a:t>-</a:t>
            </a:r>
            <a:r>
              <a:rPr b="0" lang="ru-RU" sz="2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теме сертификации, признается органом по сертификации СС САИ, если эта испытательная лаборатория наделена полномочиями в СС СА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539640"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Сертификат соответствия</a:t>
            </a:r>
            <a:r>
              <a:rPr b="0" lang="ru-RU" sz="20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декларация о подтверждении соответст-вия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2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выданный органом по сертификации, аккредитованным в другой системе сертификации</a:t>
            </a:r>
            <a:r>
              <a:rPr b="0" lang="ru-RU" sz="20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или изготовителем САИ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2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может являться основа</a:t>
            </a:r>
            <a:r>
              <a:rPr b="0" lang="ru-RU" sz="2000" spc="-1" strike="noStrike">
                <a:solidFill>
                  <a:srgbClr val="339933"/>
                </a:solidFill>
                <a:latin typeface="Times New Roman"/>
              </a:rPr>
              <a:t>-</a:t>
            </a:r>
            <a:r>
              <a:rPr b="0" lang="ru-RU" sz="2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нием для выдачи сертификата соответствия Системы при наличии специ</a:t>
            </a:r>
            <a:r>
              <a:rPr b="0" lang="ru-RU" sz="2000" spc="-1" strike="noStrike">
                <a:solidFill>
                  <a:srgbClr val="339933"/>
                </a:solidFill>
                <a:latin typeface="Times New Roman"/>
              </a:rPr>
              <a:t>-</a:t>
            </a:r>
            <a:r>
              <a:rPr b="0" lang="ru-RU" sz="2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ального решения ЦО СС САИ о возможности признания этого сертифи</a:t>
            </a:r>
            <a:r>
              <a:rPr b="0" lang="ru-RU" sz="2000" spc="-1" strike="noStrike">
                <a:solidFill>
                  <a:srgbClr val="339933"/>
                </a:solidFill>
                <a:latin typeface="Times New Roman"/>
              </a:rPr>
              <a:t>-</a:t>
            </a:r>
            <a:r>
              <a:rPr b="0" lang="ru-RU" sz="2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ката соответств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 CYR"/>
              </a:rPr>
              <a:t>Система добровольной сертификации средств автоматической идентификации (СС САИ)</a:t>
            </a:r>
            <a:br>
              <a:rPr sz="2400"/>
            </a:b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ФИНАНСИРОВАНИЕ РАБОТ В СИСТЕМЕ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br>
              <a:rPr sz="16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752480"/>
            <a:ext cx="85341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1143000" y="5943600"/>
          <a:ext cx="1371600" cy="71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5943600"/>
                    <a:ext cx="13716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"/>
          <p:cNvSpPr/>
          <p:nvPr/>
        </p:nvSpPr>
        <p:spPr>
          <a:xfrm>
            <a:off x="1500120" y="3124080"/>
            <a:ext cx="1598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568520" y="2316240"/>
            <a:ext cx="6076800" cy="853920"/>
            <a:chOff x="1568520" y="2316240"/>
            <a:chExt cx="6076800" cy="853920"/>
          </a:xfrm>
        </p:grpSpPr>
        <p:sp>
          <p:nvSpPr>
            <p:cNvPr id="243" name=""/>
            <p:cNvSpPr/>
            <p:nvPr/>
          </p:nvSpPr>
          <p:spPr>
            <a:xfrm>
              <a:off x="1568520" y="2316240"/>
              <a:ext cx="159840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166920" y="2316240"/>
              <a:ext cx="279108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958000" y="2316240"/>
              <a:ext cx="168732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6" name="Eanrus1" descr=""/>
          <p:cNvPicPr/>
          <p:nvPr/>
        </p:nvPicPr>
        <p:blipFill>
          <a:blip r:embed="rId3"/>
          <a:stretch/>
        </p:blipFill>
        <p:spPr>
          <a:xfrm>
            <a:off x="7162920" y="5867280"/>
            <a:ext cx="1685880" cy="7621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8956800" y="3733920"/>
            <a:ext cx="168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4"/>
          <a:stretch/>
        </p:blipFill>
        <p:spPr>
          <a:xfrm>
            <a:off x="3657600" y="6172200"/>
            <a:ext cx="2730600" cy="4446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457200" y="1295280"/>
            <a:ext cx="8229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04920" y="1905120"/>
            <a:ext cx="84582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539640" algn="ctr"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Расходы, связанные с проведением сертификации, и инспекционног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контроля, несут заявител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539640" algn="just"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Условия оплаты определяются договором между заявителем и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органом по сертификации, испытательной лабораторией. При этом оплата работ производится вне зависимости от их результат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539640" algn="just"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Работы по ведению Реестра СС САИ, архивному хранению материалов регистрации, обеспечению информацией о работах по сертификации, проводимых в СС САИ, финансируются за счет договоров с заявителям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 CYR"/>
              </a:rPr>
              <a:t>Система добровольной сертификации средств автоматической идентификации (СС САИ)</a:t>
            </a:r>
            <a:br>
              <a:rPr sz="2400"/>
            </a:b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Пример целесообразности учета результатов добровольной сертификации на практике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304920" y="1752480"/>
            <a:ext cx="85341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1143000" y="5943600"/>
          <a:ext cx="1371600" cy="71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5943600"/>
                    <a:ext cx="13716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1500120" y="3124080"/>
            <a:ext cx="1598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1568520" y="2316240"/>
            <a:ext cx="6076800" cy="853920"/>
            <a:chOff x="1568520" y="2316240"/>
            <a:chExt cx="6076800" cy="853920"/>
          </a:xfrm>
        </p:grpSpPr>
        <p:sp>
          <p:nvSpPr>
            <p:cNvPr id="257" name=""/>
            <p:cNvSpPr/>
            <p:nvPr/>
          </p:nvSpPr>
          <p:spPr>
            <a:xfrm>
              <a:off x="1568520" y="2316240"/>
              <a:ext cx="159840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166920" y="2316240"/>
              <a:ext cx="279108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958000" y="2316240"/>
              <a:ext cx="168732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0" name="Eanrus1" descr=""/>
          <p:cNvPicPr/>
          <p:nvPr/>
        </p:nvPicPr>
        <p:blipFill>
          <a:blip r:embed="rId3"/>
          <a:stretch/>
        </p:blipFill>
        <p:spPr>
          <a:xfrm>
            <a:off x="7162920" y="5867280"/>
            <a:ext cx="1685880" cy="7621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8956800" y="3733920"/>
            <a:ext cx="168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4"/>
          <a:stretch/>
        </p:blipFill>
        <p:spPr>
          <a:xfrm>
            <a:off x="3657600" y="6172200"/>
            <a:ext cx="2730600" cy="44460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457200" y="1295280"/>
            <a:ext cx="8229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04920" y="1905120"/>
            <a:ext cx="84582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п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сквозного процесса автоматизации магазина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539640" algn="just"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выбор формата торговли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539640"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ор оборудования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539640" algn="just"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выбор информационной системы (ИС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539640" algn="just"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соединение ИС с технологией бизнеса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539640"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бретение оборудования и ПО для ИС;</a:t>
            </a:r>
            <a:r>
              <a:rPr b="0" lang="ru-RU" sz="2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539640" algn="just"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внедрение ИС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539640" algn="just"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эксплуатация и развитие ИС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 CYR"/>
              </a:rPr>
              <a:t>Система добровольной сертификации средств автоматической идентификации (СС САИ)</a:t>
            </a:r>
            <a:br>
              <a:rPr sz="2400"/>
            </a:b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Примерные расценки работ по добровольной сертифик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304920" y="1752480"/>
            <a:ext cx="85341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1143000" y="5943600"/>
          <a:ext cx="1371600" cy="71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5943600"/>
                    <a:ext cx="13716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"/>
          <p:cNvSpPr/>
          <p:nvPr/>
        </p:nvSpPr>
        <p:spPr>
          <a:xfrm>
            <a:off x="1500120" y="3124080"/>
            <a:ext cx="1598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1568520" y="2316240"/>
            <a:ext cx="6076800" cy="853920"/>
            <a:chOff x="1568520" y="2316240"/>
            <a:chExt cx="6076800" cy="853920"/>
          </a:xfrm>
        </p:grpSpPr>
        <p:sp>
          <p:nvSpPr>
            <p:cNvPr id="271" name=""/>
            <p:cNvSpPr/>
            <p:nvPr/>
          </p:nvSpPr>
          <p:spPr>
            <a:xfrm>
              <a:off x="1568520" y="2316240"/>
              <a:ext cx="159840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166920" y="2316240"/>
              <a:ext cx="279108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958000" y="2316240"/>
              <a:ext cx="168732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4" name="Eanrus1" descr=""/>
          <p:cNvPicPr/>
          <p:nvPr/>
        </p:nvPicPr>
        <p:blipFill>
          <a:blip r:embed="rId3"/>
          <a:stretch/>
        </p:blipFill>
        <p:spPr>
          <a:xfrm>
            <a:off x="7162920" y="5867280"/>
            <a:ext cx="1685880" cy="7621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8956800" y="3733920"/>
            <a:ext cx="168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4"/>
          <a:stretch/>
        </p:blipFill>
        <p:spPr>
          <a:xfrm>
            <a:off x="3657600" y="6172200"/>
            <a:ext cx="2730600" cy="4446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457200" y="1295280"/>
            <a:ext cx="8229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04920" y="1523880"/>
            <a:ext cx="8458200" cy="41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тификация по схеме №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8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250 у.е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 2 до 5 рабочих дней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тификация по схеме №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 7 - 450 у.е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 7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чих дней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тификация по схеме №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, 3а - 1000 у.е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; д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 рабочих дней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339933"/>
                </a:solidFill>
                <a:latin typeface="Times New Roman"/>
              </a:rPr>
              <a:t>При </a:t>
            </a:r>
            <a:r>
              <a:rPr b="0" lang="ru-RU" sz="2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выполнени</a:t>
            </a:r>
            <a:r>
              <a:rPr b="0" lang="ru-RU" sz="2000" spc="-1" strike="noStrike">
                <a:solidFill>
                  <a:srgbClr val="339933"/>
                </a:solidFill>
                <a:latin typeface="Times New Roman"/>
              </a:rPr>
              <a:t>и</a:t>
            </a:r>
            <a:r>
              <a:rPr b="0" lang="ru-RU" sz="2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О</a:t>
            </a:r>
            <a:r>
              <a:rPr b="0" lang="ru-RU" sz="2000" spc="-1" strike="noStrike">
                <a:solidFill>
                  <a:srgbClr val="339933"/>
                </a:solidFill>
                <a:latin typeface="Times New Roman"/>
              </a:rPr>
              <a:t>С</a:t>
            </a:r>
            <a:r>
              <a:rPr b="0" lang="ru-RU" sz="2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по добровольной сертификации, входящим в струк</a:t>
            </a:r>
            <a:r>
              <a:rPr b="0" lang="ru-RU" sz="2000" spc="-1" strike="noStrike">
                <a:solidFill>
                  <a:srgbClr val="339933"/>
                </a:solidFill>
                <a:latin typeface="Times New Roman"/>
              </a:rPr>
              <a:t>-</a:t>
            </a:r>
            <a:r>
              <a:rPr b="0" lang="ru-RU" sz="2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туру  СС САИ, работ по процедуре признания материалов и документов, подтверждающих соответствие САИ заявленным требованиям стандартов, в частности, Декларации о подтверждении соответствия с информацией о проведенных испытаниях,  суммарная стоимость экспертизы материалов и оформления Сертификата соответствия </a:t>
            </a:r>
            <a:r>
              <a:rPr b="0" lang="ru-RU" sz="2000" spc="-1" strike="noStrike">
                <a:solidFill>
                  <a:srgbClr val="339933"/>
                </a:solidFill>
                <a:latin typeface="Times New Roman"/>
              </a:rPr>
              <a:t>СС САИ </a:t>
            </a:r>
            <a:r>
              <a:rPr b="0" lang="ru-RU" sz="2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может составить – ориен</a:t>
            </a:r>
            <a:r>
              <a:rPr b="0" lang="ru-RU" sz="2000" spc="-1" strike="noStrike">
                <a:solidFill>
                  <a:srgbClr val="339933"/>
                </a:solidFill>
                <a:latin typeface="Times New Roman"/>
              </a:rPr>
              <a:t>-</a:t>
            </a:r>
            <a:r>
              <a:rPr b="0" lang="ru-RU" sz="2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тировочно 150 у.е.- 250 у.е., при продолжительности работ -  от 3-х  до 5-ти рабочих дней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 CYR"/>
              </a:rPr>
              <a:t>Система добровольной сертификации средств автоматической идентификации (СС САИ)</a:t>
            </a:r>
            <a:br>
              <a:rPr sz="2400"/>
            </a:br>
            <a:r>
              <a:rPr b="1" lang="en-US" sz="1800" spc="-1" strike="noStrike">
                <a:solidFill>
                  <a:srgbClr val="339933"/>
                </a:solidFill>
                <a:latin typeface="Times New Roman"/>
              </a:rPr>
              <a:t>Пример сертификации сканеров штрихового ко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304920" y="1752480"/>
            <a:ext cx="85341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1143000" y="5943600"/>
          <a:ext cx="1371600" cy="71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5943600"/>
                    <a:ext cx="13716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"/>
          <p:cNvSpPr/>
          <p:nvPr/>
        </p:nvSpPr>
        <p:spPr>
          <a:xfrm>
            <a:off x="1500120" y="3124080"/>
            <a:ext cx="1598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1568520" y="2316240"/>
            <a:ext cx="6076800" cy="853920"/>
            <a:chOff x="1568520" y="2316240"/>
            <a:chExt cx="6076800" cy="853920"/>
          </a:xfrm>
        </p:grpSpPr>
        <p:sp>
          <p:nvSpPr>
            <p:cNvPr id="285" name=""/>
            <p:cNvSpPr/>
            <p:nvPr/>
          </p:nvSpPr>
          <p:spPr>
            <a:xfrm>
              <a:off x="1568520" y="2316240"/>
              <a:ext cx="159840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166920" y="2316240"/>
              <a:ext cx="279108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958000" y="2316240"/>
              <a:ext cx="168732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88" name="Eanrus1" descr=""/>
          <p:cNvPicPr/>
          <p:nvPr/>
        </p:nvPicPr>
        <p:blipFill>
          <a:blip r:embed="rId3"/>
          <a:stretch/>
        </p:blipFill>
        <p:spPr>
          <a:xfrm>
            <a:off x="7162920" y="5867280"/>
            <a:ext cx="1685880" cy="76212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8956800" y="3733920"/>
            <a:ext cx="168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4"/>
          <a:stretch/>
        </p:blipFill>
        <p:spPr>
          <a:xfrm>
            <a:off x="3657600" y="6172200"/>
            <a:ext cx="2730600" cy="44460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457200" y="1295280"/>
            <a:ext cx="8229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04920" y="1523880"/>
            <a:ext cx="8458200" cy="43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ндарт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O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C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423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“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ческая идентификация и методы сбора данных - Испытание характеристик сканера и декодера штрихового кода”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539640" algn="just"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9933"/>
                </a:solidFill>
                <a:latin typeface="Times New Roman"/>
              </a:rPr>
              <a:t>Устанавливает</a:t>
            </a:r>
            <a:r>
              <a:rPr b="1" i="1" lang="ru-RU" sz="1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испытательное оборудование и процедуры, которые нужно использовать, чтобы определить характеристики сканирующего и декодирующего оборудования штрихового кода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539640" algn="just"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9933"/>
                </a:solidFill>
                <a:latin typeface="Times New Roman"/>
              </a:rPr>
              <a:t>О</a:t>
            </a:r>
            <a:r>
              <a:rPr b="1" i="1" lang="ru-RU" sz="1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пределяет требования относительно методов для сканирования и декодирования линейных символов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539640" algn="just"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9933"/>
                </a:solidFill>
                <a:latin typeface="Times New Roman"/>
              </a:rPr>
              <a:t>И</a:t>
            </a:r>
            <a:r>
              <a:rPr b="1" i="1" lang="ru-RU" sz="1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меет дело со сканирующим и декодирующим оборудованием штрихового кода, как с интегрированным в системы считывания, так и как с дискретными модулями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539640" algn="just"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9933"/>
                </a:solidFill>
                <a:latin typeface="Times New Roman"/>
              </a:rPr>
              <a:t>О</a:t>
            </a:r>
            <a:r>
              <a:rPr b="1" i="1" lang="ru-RU" sz="1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пределяет характеристики оборудования в конкретной конфигурации (например, определенная модель), независимо от индивидуально используемых компонентов. Он также определяет в обязательном приложении средства классификации сканеров и эксплуатационные параметр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 CYR"/>
              </a:rPr>
              <a:t>Правовое обеспечение сертификации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по Федеральному Закону «О техническом регулировании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62120" y="1752120"/>
            <a:ext cx="761976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 CYR"/>
              </a:rPr>
              <a:t>	</a:t>
            </a:r>
            <a:r>
              <a:rPr b="1" lang="ru-RU" sz="2400" spc="-1" strike="noStrike">
                <a:solidFill>
                  <a:srgbClr val="800000"/>
                </a:solidFill>
                <a:latin typeface="Arial CYR"/>
                <a:ea typeface="Times New Roman"/>
              </a:rPr>
              <a:t>Принципы подтверждения соответствия</a:t>
            </a:r>
            <a:r>
              <a:rPr b="1" lang="ru-RU" sz="2400" spc="-1" strike="noStrike">
                <a:solidFill>
                  <a:srgbClr val="800000"/>
                </a:solidFill>
                <a:latin typeface="Arial CYR"/>
              </a:rPr>
              <a:t>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buClr>
                <a:srgbClr val="339933"/>
              </a:buClr>
              <a:buFont typeface="Arial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9933"/>
                </a:solidFill>
                <a:latin typeface="Arial CYR"/>
                <a:ea typeface="Times New Roman"/>
              </a:rPr>
              <a:t>недопустимост</a:t>
            </a:r>
            <a:r>
              <a:rPr b="0" i="1" lang="ru-RU" sz="2000" spc="-1" strike="noStrike">
                <a:solidFill>
                  <a:srgbClr val="339933"/>
                </a:solidFill>
                <a:latin typeface="Arial CYR"/>
              </a:rPr>
              <a:t>ь</a:t>
            </a:r>
            <a:r>
              <a:rPr b="0" i="1" lang="ru-RU" sz="2000" spc="-1" strike="noStrike">
                <a:solidFill>
                  <a:srgbClr val="339933"/>
                </a:solidFill>
                <a:latin typeface="Arial CYR"/>
                <a:ea typeface="Times New Roman"/>
              </a:rPr>
              <a:t> применения обязательного подтверждения соответствия к объектам, в отношении которых не установлены требования технических регламентов;</a:t>
            </a:r>
            <a:br>
              <a:rPr sz="2000"/>
            </a:br>
            <a:r>
              <a:rPr b="0" i="1" lang="ru-RU" sz="2000" spc="-1" strike="noStrike">
                <a:solidFill>
                  <a:srgbClr val="3399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buClr>
                <a:srgbClr val="339933"/>
              </a:buClr>
              <a:buFont typeface="Arial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9933"/>
                </a:solidFill>
                <a:latin typeface="Arial CYR"/>
                <a:ea typeface="Times New Roman"/>
              </a:rPr>
              <a:t>недопустимост</a:t>
            </a:r>
            <a:r>
              <a:rPr b="0" i="1" lang="ru-RU" sz="2000" spc="-1" strike="noStrike">
                <a:solidFill>
                  <a:srgbClr val="339933"/>
                </a:solidFill>
                <a:latin typeface="Arial CYR"/>
              </a:rPr>
              <a:t>ь</a:t>
            </a:r>
            <a:r>
              <a:rPr b="0" i="1" lang="ru-RU" sz="2000" spc="-1" strike="noStrike">
                <a:solidFill>
                  <a:srgbClr val="339933"/>
                </a:solidFill>
                <a:latin typeface="Arial CYR"/>
                <a:ea typeface="Times New Roman"/>
              </a:rPr>
              <a:t> принуждения к осуществлению добровольного подтверждения соответствия, в том числе в определенной сис</a:t>
            </a:r>
            <a:r>
              <a:rPr b="0" i="1" lang="ru-RU" sz="2000" spc="-1" strike="noStrike">
                <a:solidFill>
                  <a:srgbClr val="339933"/>
                </a:solidFill>
                <a:latin typeface="Arial CYR"/>
              </a:rPr>
              <a:t>-</a:t>
            </a:r>
            <a:r>
              <a:rPr b="0" i="1" lang="ru-RU" sz="2000" spc="-1" strike="noStrike">
                <a:solidFill>
                  <a:srgbClr val="339933"/>
                </a:solidFill>
                <a:latin typeface="Arial CYR"/>
                <a:ea typeface="Times New Roman"/>
              </a:rPr>
              <a:t>теме добровольной сертификации;</a:t>
            </a:r>
            <a:br>
              <a:rPr sz="2000"/>
            </a:br>
            <a:r>
              <a:rPr b="0" i="1" lang="ru-RU" sz="2000" spc="-1" strike="noStrike">
                <a:solidFill>
                  <a:srgbClr val="3399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buClr>
                <a:srgbClr val="339933"/>
              </a:buClr>
              <a:buFont typeface="Arial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9933"/>
                </a:solidFill>
                <a:latin typeface="Arial CYR"/>
                <a:ea typeface="Times New Roman"/>
              </a:rPr>
              <a:t>недопустимост</a:t>
            </a:r>
            <a:r>
              <a:rPr b="0" i="1" lang="ru-RU" sz="2000" spc="-1" strike="noStrike">
                <a:solidFill>
                  <a:srgbClr val="339933"/>
                </a:solidFill>
                <a:latin typeface="Arial CYR"/>
              </a:rPr>
              <a:t>ь</a:t>
            </a:r>
            <a:r>
              <a:rPr b="0" i="1" lang="ru-RU" sz="2000" spc="-1" strike="noStrike">
                <a:solidFill>
                  <a:srgbClr val="339933"/>
                </a:solidFill>
                <a:latin typeface="Arial CYR"/>
                <a:ea typeface="Times New Roman"/>
              </a:rPr>
              <a:t> подмены обязательного подтверждения соот</a:t>
            </a:r>
            <a:r>
              <a:rPr b="0" i="1" lang="ru-RU" sz="2000" spc="-1" strike="noStrike">
                <a:solidFill>
                  <a:srgbClr val="339933"/>
                </a:solidFill>
                <a:latin typeface="Arial CYR"/>
              </a:rPr>
              <a:t>-</a:t>
            </a:r>
            <a:r>
              <a:rPr b="0" i="1" lang="ru-RU" sz="2000" spc="-1" strike="noStrike">
                <a:solidFill>
                  <a:srgbClr val="339933"/>
                </a:solidFill>
                <a:latin typeface="Arial CYR"/>
                <a:ea typeface="Times New Roman"/>
              </a:rPr>
              <a:t>ветствия добровольной сертификацией.</a:t>
            </a:r>
            <a:br>
              <a:rPr sz="2000"/>
            </a:br>
            <a:r>
              <a:rPr b="0" i="1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9933"/>
                </a:solidFill>
                <a:latin typeface="Arial CYR"/>
                <a:ea typeface="Times New Roman"/>
              </a:rPr>
              <a:t>Подтверждение соответствия разрабатывается и применяется</a:t>
            </a:r>
            <a:r>
              <a:rPr b="0" i="1" lang="ru-RU" sz="2000" spc="-1" strike="noStrike">
                <a:solidFill>
                  <a:srgbClr val="800000"/>
                </a:solidFill>
                <a:latin typeface="Arial CYR"/>
                <a:ea typeface="Times New Roman"/>
              </a:rPr>
              <a:t> равным образом и в равной мере </a:t>
            </a:r>
            <a:r>
              <a:rPr b="0" i="1" lang="ru-RU" sz="2000" spc="-1" strike="noStrike">
                <a:solidFill>
                  <a:srgbClr val="339933"/>
                </a:solidFill>
                <a:latin typeface="Arial CYR"/>
                <a:ea typeface="Times New Roman"/>
              </a:rPr>
              <a:t>независимо от страны и (или) места происхождения продукции, осуществления</a:t>
            </a:r>
            <a:r>
              <a:rPr b="0" i="1" lang="ru-RU" sz="2000" spc="-1" strike="noStrike">
                <a:solidFill>
                  <a:srgbClr val="800000"/>
                </a:solidFill>
                <a:latin typeface="Arial CYR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339933"/>
                </a:solidFill>
                <a:latin typeface="Arial CYR"/>
                <a:ea typeface="Times New Roman"/>
              </a:rPr>
              <a:t>процессов</a:t>
            </a:r>
            <a:r>
              <a:rPr b="0" i="1" lang="ru-RU" sz="2000" spc="-1" strike="noStrike">
                <a:solidFill>
                  <a:srgbClr val="800000"/>
                </a:solidFill>
                <a:latin typeface="Arial CYR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339933"/>
                </a:solidFill>
                <a:latin typeface="Arial CYR"/>
                <a:ea typeface="Times New Roman"/>
              </a:rPr>
              <a:t>произ</a:t>
            </a:r>
            <a:r>
              <a:rPr b="0" i="1" lang="ru-RU" sz="2000" spc="-1" strike="noStrike">
                <a:solidFill>
                  <a:srgbClr val="800000"/>
                </a:solidFill>
                <a:latin typeface="Arial CYR"/>
              </a:rPr>
              <a:t>-</a:t>
            </a:r>
            <a:r>
              <a:rPr b="0" i="1" lang="ru-RU" sz="2000" spc="-1" strike="noStrike">
                <a:solidFill>
                  <a:srgbClr val="339933"/>
                </a:solidFill>
                <a:latin typeface="Arial CYR"/>
                <a:ea typeface="Times New Roman"/>
              </a:rPr>
              <a:t>водства</a:t>
            </a:r>
            <a:r>
              <a:rPr b="0" i="1" lang="ru-RU" sz="2000" spc="-1" strike="noStrike">
                <a:solidFill>
                  <a:srgbClr val="800000"/>
                </a:solidFill>
                <a:latin typeface="Arial CYR"/>
                <a:ea typeface="Times New Roman"/>
              </a:rPr>
              <a:t>, эксплуатации, хранения, перевозки, </a:t>
            </a:r>
            <a:r>
              <a:rPr b="0" i="1" lang="ru-RU" sz="2000" spc="-1" strike="noStrike">
                <a:solidFill>
                  <a:srgbClr val="339933"/>
                </a:solidFill>
                <a:latin typeface="Arial CYR"/>
                <a:ea typeface="Times New Roman"/>
              </a:rPr>
              <a:t>реализации</a:t>
            </a:r>
            <a:r>
              <a:rPr b="0" i="1" lang="ru-RU" sz="2000" spc="-1" strike="noStrike">
                <a:solidFill>
                  <a:srgbClr val="800000"/>
                </a:solidFill>
                <a:latin typeface="Arial CYR"/>
                <a:ea typeface="Times New Roman"/>
              </a:rPr>
              <a:t> и утили</a:t>
            </a:r>
            <a:r>
              <a:rPr b="0" i="1" lang="ru-RU" sz="2000" spc="-1" strike="noStrike">
                <a:solidFill>
                  <a:srgbClr val="800000"/>
                </a:solidFill>
                <a:latin typeface="Arial CYR"/>
              </a:rPr>
              <a:t>-</a:t>
            </a:r>
            <a:r>
              <a:rPr b="0" i="1" lang="ru-RU" sz="2000" spc="-1" strike="noStrike">
                <a:solidFill>
                  <a:srgbClr val="800000"/>
                </a:solidFill>
                <a:latin typeface="Arial CYR"/>
                <a:ea typeface="Times New Roman"/>
              </a:rPr>
              <a:t>зации, выполнения работ и оказания услуг, видов или особенностей сделок и (или) </a:t>
            </a:r>
            <a:r>
              <a:rPr b="0" i="1" lang="ru-RU" sz="2000" spc="-1" strike="noStrike">
                <a:solidFill>
                  <a:srgbClr val="339933"/>
                </a:solidFill>
                <a:latin typeface="Arial CYR"/>
                <a:ea typeface="Times New Roman"/>
              </a:rPr>
              <a:t>лиц, которые являются изготовителями, исполните</a:t>
            </a:r>
            <a:r>
              <a:rPr b="0" i="1" lang="ru-RU" sz="2000" spc="-1" strike="noStrike">
                <a:solidFill>
                  <a:srgbClr val="339933"/>
                </a:solidFill>
                <a:latin typeface="Arial CYR"/>
              </a:rPr>
              <a:t>-</a:t>
            </a:r>
            <a:r>
              <a:rPr b="0" i="1" lang="ru-RU" sz="2000" spc="-1" strike="noStrike">
                <a:solidFill>
                  <a:srgbClr val="339933"/>
                </a:solidFill>
                <a:latin typeface="Arial CYR"/>
                <a:ea typeface="Times New Roman"/>
              </a:rPr>
              <a:t>лями, продавцами, приобретателями.</a:t>
            </a:r>
            <a:br>
              <a:rPr sz="2000"/>
            </a:b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143000" y="5943600"/>
          <a:ext cx="1371600" cy="71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5943600"/>
                    <a:ext cx="13716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1500120" y="3124080"/>
            <a:ext cx="1598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1568520" y="2316240"/>
            <a:ext cx="6076800" cy="853920"/>
            <a:chOff x="1568520" y="2316240"/>
            <a:chExt cx="6076800" cy="853920"/>
          </a:xfrm>
        </p:grpSpPr>
        <p:sp>
          <p:nvSpPr>
            <p:cNvPr id="59" name=""/>
            <p:cNvSpPr/>
            <p:nvPr/>
          </p:nvSpPr>
          <p:spPr>
            <a:xfrm>
              <a:off x="1568520" y="2316240"/>
              <a:ext cx="159840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166920" y="2316240"/>
              <a:ext cx="279108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958000" y="2316240"/>
              <a:ext cx="168732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2" name="Eanrus1" descr=""/>
          <p:cNvPicPr/>
          <p:nvPr/>
        </p:nvPicPr>
        <p:blipFill>
          <a:blip r:embed="rId3"/>
          <a:stretch/>
        </p:blipFill>
        <p:spPr>
          <a:xfrm>
            <a:off x="7162920" y="5867280"/>
            <a:ext cx="1685880" cy="7621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8956800" y="3733920"/>
            <a:ext cx="168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3657600" y="6172200"/>
            <a:ext cx="273060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 CYR"/>
              </a:rPr>
              <a:t>Система добровольной сертификации средств автоматической идентификации (СС САИ)</a:t>
            </a:r>
            <a:br>
              <a:rPr sz="2400"/>
            </a:br>
            <a:r>
              <a:rPr b="1" lang="en-US" sz="1800" spc="-1" strike="noStrike">
                <a:solidFill>
                  <a:srgbClr val="339933"/>
                </a:solidFill>
                <a:latin typeface="Times New Roman"/>
              </a:rPr>
              <a:t>Пример сертификации сканеров штрихового ко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304920" y="1752480"/>
            <a:ext cx="85341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1143000" y="5943600"/>
          <a:ext cx="1371600" cy="71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5943600"/>
                    <a:ext cx="13716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"/>
          <p:cNvSpPr/>
          <p:nvPr/>
        </p:nvSpPr>
        <p:spPr>
          <a:xfrm>
            <a:off x="1500120" y="3124080"/>
            <a:ext cx="1598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568520" y="2316240"/>
            <a:ext cx="6076800" cy="853920"/>
            <a:chOff x="1568520" y="2316240"/>
            <a:chExt cx="6076800" cy="853920"/>
          </a:xfrm>
        </p:grpSpPr>
        <p:sp>
          <p:nvSpPr>
            <p:cNvPr id="299" name=""/>
            <p:cNvSpPr/>
            <p:nvPr/>
          </p:nvSpPr>
          <p:spPr>
            <a:xfrm>
              <a:off x="1568520" y="2316240"/>
              <a:ext cx="159840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166920" y="2316240"/>
              <a:ext cx="279108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958000" y="2316240"/>
              <a:ext cx="168732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02" name="Eanrus1" descr=""/>
          <p:cNvPicPr/>
          <p:nvPr/>
        </p:nvPicPr>
        <p:blipFill>
          <a:blip r:embed="rId3"/>
          <a:stretch/>
        </p:blipFill>
        <p:spPr>
          <a:xfrm>
            <a:off x="7162920" y="5867280"/>
            <a:ext cx="1685880" cy="7621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8956800" y="3733920"/>
            <a:ext cx="168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4"/>
          <a:stretch/>
        </p:blipFill>
        <p:spPr>
          <a:xfrm>
            <a:off x="3657600" y="6172200"/>
            <a:ext cx="2730600" cy="4446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457200" y="1295280"/>
            <a:ext cx="8229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04920" y="1523880"/>
            <a:ext cx="8610480" cy="478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мули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в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стандарте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O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C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5423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“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ческая идентификация и методы сбора данных - Испытание характеристик сканера и декодера штрихового кода” положен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сертификации, маркировке и испытаниям сканеров и декодеров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“</a:t>
            </a:r>
            <a:r>
              <a:rPr b="1" lang="ru-RU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7.0 Протокол испытани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cc"/>
                </a:solidFill>
                <a:latin typeface="MS Sans Serif"/>
                <a:ea typeface="Times New Roman"/>
              </a:rPr>
              <a:t>Протокол испытаний должен включать запись условий проведения испытаний, конфигу</a:t>
            </a:r>
            <a:r>
              <a:rPr b="0" lang="ru-RU" sz="1600" spc="-1" strike="noStrike">
                <a:solidFill>
                  <a:srgbClr val="0033cc"/>
                </a:solidFill>
                <a:latin typeface="Times New Roman"/>
              </a:rPr>
              <a:t>-</a:t>
            </a:r>
            <a:r>
              <a:rPr b="0" lang="ru-RU" sz="1600" spc="-1" strike="noStrike">
                <a:solidFill>
                  <a:srgbClr val="0033cc"/>
                </a:solidFill>
                <a:latin typeface="MS Sans Serif"/>
                <a:ea typeface="Times New Roman"/>
              </a:rPr>
              <a:t>рацию оборудования, включая вспомогательное оборудование, как описано в п. 6.4 и таблице испытаний или используемые символы, вместе с результатами испытаний в соответствии с разделом 6.8. </a:t>
            </a:r>
            <a:r>
              <a:rPr b="0" lang="ru-RU" sz="1600" spc="-1" strike="noStrike">
                <a:solidFill>
                  <a:srgbClr val="000000"/>
                </a:solidFill>
                <a:latin typeface="MS Sans Serif"/>
                <a:ea typeface="Times New Roman"/>
              </a:rPr>
              <a:t>Изготовитель оборудования должен делать копию протокола испытаний, дос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1600" spc="-1" strike="noStrike">
                <a:solidFill>
                  <a:srgbClr val="000000"/>
                </a:solidFill>
                <a:latin typeface="MS Sans Serif"/>
                <a:ea typeface="Times New Roman"/>
              </a:rPr>
              <a:t>тупного добросовестным  запросчикам по требованию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8.0 Сертификация и маркиров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cc"/>
                </a:solidFill>
                <a:latin typeface="MS Sans Serif"/>
                <a:ea typeface="Times New Roman"/>
              </a:rPr>
              <a:t>Изготовитель должен включать вместе с документацией оборудования </a:t>
            </a:r>
            <a:r>
              <a:rPr b="0" lang="ru-RU" sz="1600" spc="-1" strike="noStrike">
                <a:solidFill>
                  <a:srgbClr val="000000"/>
                </a:solidFill>
                <a:latin typeface="MS Sans Serif"/>
                <a:ea typeface="Times New Roman"/>
              </a:rPr>
              <a:t>декларацию</a:t>
            </a:r>
            <a:r>
              <a:rPr b="0" lang="ru-RU" sz="1600" spc="-1" strike="noStrike">
                <a:solidFill>
                  <a:srgbClr val="0033cc"/>
                </a:solidFill>
                <a:latin typeface="MS Sans Serif"/>
                <a:ea typeface="Times New Roman"/>
              </a:rPr>
              <a:t> о том, что </a:t>
            </a:r>
            <a:r>
              <a:rPr b="0" lang="ru-RU" sz="1600" spc="-1" strike="noStrike">
                <a:solidFill>
                  <a:srgbClr val="000000"/>
                </a:solidFill>
                <a:latin typeface="MS Sans Serif"/>
                <a:ea typeface="Times New Roman"/>
              </a:rPr>
              <a:t>оборудование было испытано в соответствии с этим международным стандартом</a:t>
            </a:r>
            <a:r>
              <a:rPr b="0" lang="ru-RU" sz="1600" spc="-1" strike="noStrike">
                <a:solidFill>
                  <a:srgbClr val="0033cc"/>
                </a:solidFill>
                <a:latin typeface="MS Sans Serif"/>
                <a:ea typeface="Times New Roman"/>
              </a:rPr>
              <a:t>. Изготовитель может присоединять этикетки к оборудованию, свидетельствующие о том, что оно было испытано в соответствии с этим международным стандартом. Никаких требований для этой этикетки не определено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 CYR"/>
              </a:rPr>
              <a:t>Система добровольной сертификации средств автоматической идентификации (СС САИ)</a:t>
            </a:r>
            <a:br>
              <a:rPr sz="2400"/>
            </a:br>
            <a:r>
              <a:rPr b="1" lang="en-US" sz="1800" spc="-1" strike="noStrike">
                <a:solidFill>
                  <a:srgbClr val="339933"/>
                </a:solidFill>
                <a:latin typeface="Times New Roman"/>
              </a:rPr>
              <a:t>Пример испытываемых параметров при сертификации сканеров штрихового ко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304920" y="1752480"/>
            <a:ext cx="85341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1143000" y="5943600"/>
          <a:ext cx="1371600" cy="71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5943600"/>
                    <a:ext cx="13716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"/>
          <p:cNvSpPr/>
          <p:nvPr/>
        </p:nvSpPr>
        <p:spPr>
          <a:xfrm>
            <a:off x="1500120" y="3124080"/>
            <a:ext cx="1598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1568520" y="2316240"/>
            <a:ext cx="6076800" cy="853920"/>
            <a:chOff x="1568520" y="2316240"/>
            <a:chExt cx="6076800" cy="853920"/>
          </a:xfrm>
        </p:grpSpPr>
        <p:sp>
          <p:nvSpPr>
            <p:cNvPr id="313" name=""/>
            <p:cNvSpPr/>
            <p:nvPr/>
          </p:nvSpPr>
          <p:spPr>
            <a:xfrm>
              <a:off x="1568520" y="2316240"/>
              <a:ext cx="159840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166920" y="2316240"/>
              <a:ext cx="279108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958000" y="2316240"/>
              <a:ext cx="168732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6" name="Eanrus1" descr=""/>
          <p:cNvPicPr/>
          <p:nvPr/>
        </p:nvPicPr>
        <p:blipFill>
          <a:blip r:embed="rId3"/>
          <a:stretch/>
        </p:blipFill>
        <p:spPr>
          <a:xfrm>
            <a:off x="7162920" y="5867280"/>
            <a:ext cx="1685880" cy="76212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8956800" y="3733920"/>
            <a:ext cx="168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4"/>
          <a:stretch/>
        </p:blipFill>
        <p:spPr>
          <a:xfrm>
            <a:off x="3657600" y="6172200"/>
            <a:ext cx="2730600" cy="44460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457200" y="1295280"/>
            <a:ext cx="8229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452680" y="17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2452680" y="1704960"/>
          <a:ext cx="4238640" cy="344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52680" y="1704960"/>
                    <a:ext cx="4238640" cy="34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"/>
          <p:cNvSpPr/>
          <p:nvPr/>
        </p:nvSpPr>
        <p:spPr>
          <a:xfrm>
            <a:off x="609480" y="533412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9933"/>
                </a:solidFill>
                <a:latin typeface="Arial"/>
                <a:ea typeface="Times New Roman"/>
              </a:rPr>
              <a:t>Пример зоны эффективного считывания (</a:t>
            </a:r>
            <a:r>
              <a:rPr b="1" lang="fr-FR" sz="1800" spc="-1" strike="noStrike">
                <a:solidFill>
                  <a:srgbClr val="339933"/>
                </a:solidFill>
                <a:latin typeface="Arial"/>
                <a:ea typeface="Times New Roman"/>
              </a:rPr>
              <a:t>MNOP</a:t>
            </a:r>
            <a:r>
              <a:rPr b="1" lang="ru-RU" sz="1800" spc="-1" strike="noStrike">
                <a:solidFill>
                  <a:srgbClr val="339933"/>
                </a:solidFill>
                <a:latin typeface="Arial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 CYR"/>
              </a:rPr>
              <a:t>Система добровольной сертификации средств автоматической идентификации (СС САИ)</a:t>
            </a:r>
            <a:br>
              <a:rPr sz="2400"/>
            </a:br>
            <a:r>
              <a:rPr b="1" lang="en-US" sz="1800" spc="-1" strike="noStrike">
                <a:solidFill>
                  <a:srgbClr val="339933"/>
                </a:solidFill>
                <a:latin typeface="Times New Roman"/>
              </a:rPr>
              <a:t>Пример испытываемых параметров при сертификации сканеров штрихового ко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304920" y="1752480"/>
            <a:ext cx="85341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143000" y="5943600"/>
          <a:ext cx="1371600" cy="71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5943600"/>
                    <a:ext cx="13716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8" name=""/>
          <p:cNvSpPr/>
          <p:nvPr/>
        </p:nvSpPr>
        <p:spPr>
          <a:xfrm>
            <a:off x="1500120" y="3124080"/>
            <a:ext cx="1598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1568520" y="2316240"/>
            <a:ext cx="6076800" cy="853920"/>
            <a:chOff x="1568520" y="2316240"/>
            <a:chExt cx="6076800" cy="853920"/>
          </a:xfrm>
        </p:grpSpPr>
        <p:sp>
          <p:nvSpPr>
            <p:cNvPr id="330" name=""/>
            <p:cNvSpPr/>
            <p:nvPr/>
          </p:nvSpPr>
          <p:spPr>
            <a:xfrm>
              <a:off x="1568520" y="2316240"/>
              <a:ext cx="159840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166920" y="2316240"/>
              <a:ext cx="279108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58000" y="2316240"/>
              <a:ext cx="168732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33" name="Eanrus1" descr=""/>
          <p:cNvPicPr/>
          <p:nvPr/>
        </p:nvPicPr>
        <p:blipFill>
          <a:blip r:embed="rId3"/>
          <a:stretch/>
        </p:blipFill>
        <p:spPr>
          <a:xfrm>
            <a:off x="7162920" y="5867280"/>
            <a:ext cx="1685880" cy="7621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8956800" y="3733920"/>
            <a:ext cx="168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4"/>
          <a:stretch/>
        </p:blipFill>
        <p:spPr>
          <a:xfrm>
            <a:off x="3657600" y="6172200"/>
            <a:ext cx="2730600" cy="4446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457200" y="1295280"/>
            <a:ext cx="8229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452680" y="17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090880" y="26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1066680" y="1752480"/>
          <a:ext cx="7162920" cy="2819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6680" y="1752480"/>
                    <a:ext cx="716292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1" name=""/>
          <p:cNvSpPr/>
          <p:nvPr/>
        </p:nvSpPr>
        <p:spPr>
          <a:xfrm>
            <a:off x="1066680" y="4572000"/>
            <a:ext cx="708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9933"/>
                </a:solidFill>
                <a:latin typeface="Arial"/>
                <a:ea typeface="Times New Roman"/>
              </a:rPr>
              <a:t>Углы считы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 CYR"/>
              </a:rPr>
              <a:t>Система добровольной сертификации средств автоматической идентификации (СС САИ)</a:t>
            </a:r>
            <a:br>
              <a:rPr sz="2400"/>
            </a:b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Испытываемые параметры сканеров штрихового кода</a:t>
            </a:r>
            <a:br>
              <a:rPr sz="1800"/>
            </a:br>
            <a:r>
              <a:rPr b="1" lang="en-US" sz="1800" spc="-1" strike="noStrike">
                <a:solidFill>
                  <a:srgbClr val="339933"/>
                </a:solidFill>
                <a:latin typeface="Times New Roman"/>
              </a:rPr>
              <a:t>(по международному и национальному стандарту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304920" y="1752480"/>
            <a:ext cx="85341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1143000" y="5943600"/>
          <a:ext cx="1371600" cy="71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5943600"/>
                    <a:ext cx="13716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"/>
          <p:cNvSpPr/>
          <p:nvPr/>
        </p:nvSpPr>
        <p:spPr>
          <a:xfrm>
            <a:off x="1500120" y="3124080"/>
            <a:ext cx="1598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1568520" y="2316240"/>
            <a:ext cx="6076800" cy="853920"/>
            <a:chOff x="1568520" y="2316240"/>
            <a:chExt cx="6076800" cy="853920"/>
          </a:xfrm>
        </p:grpSpPr>
        <p:sp>
          <p:nvSpPr>
            <p:cNvPr id="348" name=""/>
            <p:cNvSpPr/>
            <p:nvPr/>
          </p:nvSpPr>
          <p:spPr>
            <a:xfrm>
              <a:off x="1568520" y="2316240"/>
              <a:ext cx="159840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66920" y="2316240"/>
              <a:ext cx="279108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958000" y="2316240"/>
              <a:ext cx="168732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1" name="Eanrus1" descr=""/>
          <p:cNvPicPr/>
          <p:nvPr/>
        </p:nvPicPr>
        <p:blipFill>
          <a:blip r:embed="rId3"/>
          <a:stretch/>
        </p:blipFill>
        <p:spPr>
          <a:xfrm>
            <a:off x="7162920" y="5867280"/>
            <a:ext cx="1685880" cy="76212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8956800" y="3733920"/>
            <a:ext cx="168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4"/>
          <a:stretch/>
        </p:blipFill>
        <p:spPr>
          <a:xfrm>
            <a:off x="3657600" y="6172200"/>
            <a:ext cx="2730600" cy="44460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52680" y="17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090880" y="26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457200" y="1981080"/>
            <a:ext cx="7999920" cy="3352680"/>
            <a:chOff x="457200" y="1981080"/>
            <a:chExt cx="7999920" cy="3352680"/>
          </a:xfrm>
        </p:grpSpPr>
        <p:sp>
          <p:nvSpPr>
            <p:cNvPr id="358" name=""/>
            <p:cNvSpPr/>
            <p:nvPr/>
          </p:nvSpPr>
          <p:spPr>
            <a:xfrm>
              <a:off x="582480" y="2412360"/>
              <a:ext cx="3659040" cy="48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S Sans Serif"/>
                  <a:ea typeface="Times New Roman"/>
                </a:rPr>
                <a:t>Разрешающая способность сканер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241880" y="2412360"/>
              <a:ext cx="1191960" cy="48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S Sans Serif"/>
                  <a:ea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433840" y="2412360"/>
              <a:ext cx="1061640" cy="48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S Sans Serif"/>
                  <a:ea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495840" y="2412360"/>
              <a:ext cx="1084320" cy="48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S Sans Serif"/>
                  <a:ea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82480" y="2899440"/>
              <a:ext cx="3659040" cy="48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S Sans Serif"/>
                  <a:ea typeface="Times New Roman"/>
                </a:rPr>
                <a:t>Скорость сканирования сканер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241880" y="2899440"/>
              <a:ext cx="1191960" cy="48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S Sans Serif"/>
                  <a:ea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433840" y="2899440"/>
              <a:ext cx="1061640" cy="48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MS Sans Serif"/>
                  <a:ea typeface="Times New Roman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495840" y="2899440"/>
              <a:ext cx="1084320" cy="48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MS Sans Serif"/>
                  <a:ea typeface="Times New Roman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82480" y="3386160"/>
              <a:ext cx="3659040" cy="48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S Sans Serif"/>
                  <a:ea typeface="Times New Roman"/>
                </a:rPr>
                <a:t>Диаграмма считывания сканер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241880" y="3386160"/>
              <a:ext cx="1191960" cy="48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S Sans Serif"/>
                  <a:ea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33840" y="3386160"/>
              <a:ext cx="1061640" cy="48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S Sans Serif"/>
                  <a:ea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495840" y="3386160"/>
              <a:ext cx="1084320" cy="48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S Sans Serif"/>
                  <a:ea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82480" y="3873240"/>
              <a:ext cx="3659040" cy="48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S Sans Serif"/>
                  <a:ea typeface="Times New Roman"/>
                </a:rPr>
                <a:t>Разворот (символа штрихового кода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241880" y="3873240"/>
              <a:ext cx="1191960" cy="48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S Sans Serif"/>
                  <a:ea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433840" y="3873240"/>
              <a:ext cx="1061640" cy="48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S Sans Serif"/>
                  <a:ea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495840" y="3873240"/>
              <a:ext cx="1084320" cy="48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S Sans Serif"/>
                  <a:ea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82480" y="4360320"/>
              <a:ext cx="3659040" cy="48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S Sans Serif"/>
                  <a:ea typeface="Times New Roman"/>
                </a:rPr>
                <a:t>Перекос (символа штрихового кода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241880" y="4360320"/>
              <a:ext cx="1191960" cy="48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S Sans Serif"/>
                  <a:ea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433840" y="4360320"/>
              <a:ext cx="1061640" cy="48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S Sans Serif"/>
                  <a:ea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495840" y="4360320"/>
              <a:ext cx="1084320" cy="48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S Sans Serif"/>
                  <a:ea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8" name=""/>
            <p:cNvGrpSpPr/>
            <p:nvPr/>
          </p:nvGrpSpPr>
          <p:grpSpPr>
            <a:xfrm>
              <a:off x="457200" y="1981080"/>
              <a:ext cx="3909240" cy="431280"/>
              <a:chOff x="457200" y="1981080"/>
              <a:chExt cx="3909240" cy="431280"/>
            </a:xfrm>
          </p:grpSpPr>
          <p:sp>
            <p:nvSpPr>
              <p:cNvPr id="379" name=""/>
              <p:cNvSpPr/>
              <p:nvPr/>
            </p:nvSpPr>
            <p:spPr>
              <a:xfrm>
                <a:off x="582480" y="1981080"/>
                <a:ext cx="365868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MS Sans Serif"/>
                    <a:ea typeface="Times New Roman"/>
                  </a:rPr>
                  <a:t>Параметр сканер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57200" y="1981080"/>
                <a:ext cx="3909240" cy="431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4366800" y="1981080"/>
              <a:ext cx="1442880" cy="431280"/>
              <a:chOff x="4366800" y="1981080"/>
              <a:chExt cx="1442880" cy="431280"/>
            </a:xfrm>
          </p:grpSpPr>
          <p:sp>
            <p:nvSpPr>
              <p:cNvPr id="382" name=""/>
              <p:cNvSpPr/>
              <p:nvPr/>
            </p:nvSpPr>
            <p:spPr>
              <a:xfrm>
                <a:off x="4492080" y="1981080"/>
                <a:ext cx="119232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MS Sans Serif"/>
                    <a:ea typeface="Times New Roman"/>
                  </a:rPr>
                  <a:t>Одна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MS Sans Serif"/>
                    <a:ea typeface="Times New Roman"/>
                  </a:rPr>
                  <a:t>ось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366800" y="1981080"/>
                <a:ext cx="1442880" cy="431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5810040" y="1981080"/>
              <a:ext cx="1311840" cy="431280"/>
              <a:chOff x="5810040" y="1981080"/>
              <a:chExt cx="1311840" cy="431280"/>
            </a:xfrm>
          </p:grpSpPr>
          <p:sp>
            <p:nvSpPr>
              <p:cNvPr id="385" name=""/>
              <p:cNvSpPr/>
              <p:nvPr/>
            </p:nvSpPr>
            <p:spPr>
              <a:xfrm>
                <a:off x="5935320" y="1981080"/>
                <a:ext cx="106056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MS Sans Serif"/>
                    <a:ea typeface="Times New Roman"/>
                  </a:rPr>
                  <a:t>Две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MS Sans Serif"/>
                    <a:ea typeface="Times New Roman"/>
                  </a:rPr>
                  <a:t>оси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5810040" y="1981080"/>
                <a:ext cx="1311840" cy="431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7" name=""/>
            <p:cNvGrpSpPr/>
            <p:nvPr/>
          </p:nvGrpSpPr>
          <p:grpSpPr>
            <a:xfrm>
              <a:off x="7122600" y="1981080"/>
              <a:ext cx="1334520" cy="431280"/>
              <a:chOff x="7122600" y="1981080"/>
              <a:chExt cx="1334520" cy="431280"/>
            </a:xfrm>
          </p:grpSpPr>
          <p:sp>
            <p:nvSpPr>
              <p:cNvPr id="388" name=""/>
              <p:cNvSpPr/>
              <p:nvPr/>
            </p:nvSpPr>
            <p:spPr>
              <a:xfrm>
                <a:off x="7247520" y="1981080"/>
                <a:ext cx="108468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MS Sans Serif"/>
                    <a:ea typeface="Times New Roman"/>
                  </a:rPr>
                  <a:t>Три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MS Sans Serif"/>
                    <a:ea typeface="Times New Roman"/>
                  </a:rPr>
                  <a:t>оси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122600" y="1981080"/>
                <a:ext cx="1334520" cy="431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0" name=""/>
            <p:cNvGrpSpPr/>
            <p:nvPr/>
          </p:nvGrpSpPr>
          <p:grpSpPr>
            <a:xfrm>
              <a:off x="457200" y="4847040"/>
              <a:ext cx="3909240" cy="486720"/>
              <a:chOff x="457200" y="4847040"/>
              <a:chExt cx="3909240" cy="486720"/>
            </a:xfrm>
          </p:grpSpPr>
          <p:sp>
            <p:nvSpPr>
              <p:cNvPr id="391" name=""/>
              <p:cNvSpPr/>
              <p:nvPr/>
            </p:nvSpPr>
            <p:spPr>
              <a:xfrm>
                <a:off x="582480" y="4847040"/>
                <a:ext cx="3658680" cy="48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MS Sans Serif"/>
                    <a:ea typeface="Times New Roman"/>
                  </a:rPr>
                  <a:t>Крен (символа штрихового кода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57200" y="4847040"/>
                <a:ext cx="3909240" cy="486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4366800" y="4847040"/>
              <a:ext cx="1442880" cy="486720"/>
              <a:chOff x="4366800" y="4847040"/>
              <a:chExt cx="1442880" cy="486720"/>
            </a:xfrm>
          </p:grpSpPr>
          <p:sp>
            <p:nvSpPr>
              <p:cNvPr id="394" name=""/>
              <p:cNvSpPr/>
              <p:nvPr/>
            </p:nvSpPr>
            <p:spPr>
              <a:xfrm>
                <a:off x="4492080" y="4847040"/>
                <a:ext cx="1192320" cy="48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MS Sans Serif"/>
                    <a:ea typeface="Times New Roman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366800" y="4847040"/>
                <a:ext cx="1442880" cy="486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5810040" y="4847040"/>
              <a:ext cx="1311840" cy="486720"/>
              <a:chOff x="5810040" y="4847040"/>
              <a:chExt cx="1311840" cy="486720"/>
            </a:xfrm>
          </p:grpSpPr>
          <p:sp>
            <p:nvSpPr>
              <p:cNvPr id="397" name=""/>
              <p:cNvSpPr/>
              <p:nvPr/>
            </p:nvSpPr>
            <p:spPr>
              <a:xfrm>
                <a:off x="5935320" y="4847040"/>
                <a:ext cx="1060560" cy="48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   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MS Sans Serif"/>
                    <a:ea typeface="Times New Roman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810040" y="4847040"/>
                <a:ext cx="1311840" cy="486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7122600" y="4847040"/>
              <a:ext cx="1334520" cy="486720"/>
              <a:chOff x="7122600" y="4847040"/>
              <a:chExt cx="1334520" cy="486720"/>
            </a:xfrm>
          </p:grpSpPr>
          <p:sp>
            <p:nvSpPr>
              <p:cNvPr id="400" name=""/>
              <p:cNvSpPr/>
              <p:nvPr/>
            </p:nvSpPr>
            <p:spPr>
              <a:xfrm>
                <a:off x="7247520" y="4847040"/>
                <a:ext cx="1084680" cy="48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MS Sans Serif"/>
                    <a:ea typeface="Times New Roman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7122600" y="4847040"/>
                <a:ext cx="1334520" cy="486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 CYR"/>
              </a:rPr>
              <a:t>Правовое обеспечение сертификации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по Федеральному Закону «О техническом регулировании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304560" y="1752480"/>
            <a:ext cx="8458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 CYR"/>
              </a:rPr>
              <a:t>	</a:t>
            </a:r>
            <a:r>
              <a:rPr b="1" lang="ru-RU" sz="1600" spc="-1" strike="noStrike">
                <a:solidFill>
                  <a:srgbClr val="800000"/>
                </a:solidFill>
                <a:latin typeface="Arial CYR"/>
              </a:rPr>
              <a:t>	</a:t>
            </a:r>
            <a:r>
              <a:rPr b="1" lang="en-US" sz="1600" spc="-1" strike="noStrike">
                <a:solidFill>
                  <a:srgbClr val="800000"/>
                </a:solidFill>
                <a:latin typeface="Arial CYR"/>
              </a:rPr>
              <a:t>     </a:t>
            </a:r>
            <a:r>
              <a:rPr b="1" lang="ru-RU" sz="2400" spc="-1" strike="noStrike">
                <a:solidFill>
                  <a:srgbClr val="800000"/>
                </a:solidFill>
                <a:latin typeface="Arial CYR"/>
                <a:ea typeface="Times New Roman"/>
              </a:rPr>
              <a:t>Формы подтверждения соответствия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Подтверждение соответствия на территории Российской</a:t>
            </a:r>
            <a:r>
              <a:rPr b="0" i="1" lang="ru-RU" sz="20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Федерации может носить добровольный или обязательный характе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60000"/>
              </a:lnSpc>
              <a:spcBef>
                <a:spcPts val="499"/>
              </a:spcBef>
              <a:buClr>
                <a:srgbClr val="ff0000"/>
              </a:buClr>
              <a:buFont typeface="Helv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Добровольное подтверждение соответствия осуществляется в форме добровольной сертификации.</a:t>
            </a:r>
            <a:br>
              <a:rPr sz="2000"/>
            </a:b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Helv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Обязательное подтверждение соответствия осуществляется в формах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800000"/>
                </a:solidFill>
                <a:latin typeface="Times New Roman"/>
              </a:rPr>
              <a:t>- </a:t>
            </a:r>
            <a:r>
              <a:rPr b="0" i="1" lang="ru-RU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принятия декларации о соответствии (далее</a:t>
            </a:r>
            <a:r>
              <a:rPr b="0" i="1" lang="ru-RU" sz="20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-</a:t>
            </a:r>
            <a:r>
              <a:rPr b="0" i="1" lang="ru-RU" sz="20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декларирование соответствия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Arial CYR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Arial CYR"/>
              </a:rPr>
              <a:t>	</a:t>
            </a:r>
            <a:r>
              <a:rPr b="0" i="1" lang="ru-RU" sz="2000" spc="-1" strike="noStrike">
                <a:solidFill>
                  <a:srgbClr val="800000"/>
                </a:solidFill>
                <a:latin typeface="Arial CYR"/>
              </a:rPr>
              <a:t>- </a:t>
            </a:r>
            <a:r>
              <a:rPr b="0" i="1" lang="ru-RU" sz="2000" spc="-1" strike="noStrike">
                <a:solidFill>
                  <a:srgbClr val="800000"/>
                </a:solidFill>
                <a:latin typeface="Arial CYR"/>
                <a:ea typeface="Times New Roman"/>
              </a:rPr>
              <a:t>обязательной сертификаци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143000" y="5943600"/>
          <a:ext cx="1371600" cy="71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5943600"/>
                    <a:ext cx="13716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1500120" y="3124080"/>
            <a:ext cx="1598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1568520" y="2316240"/>
            <a:ext cx="6076800" cy="853920"/>
            <a:chOff x="1568520" y="2316240"/>
            <a:chExt cx="6076800" cy="853920"/>
          </a:xfrm>
        </p:grpSpPr>
        <p:sp>
          <p:nvSpPr>
            <p:cNvPr id="71" name=""/>
            <p:cNvSpPr/>
            <p:nvPr/>
          </p:nvSpPr>
          <p:spPr>
            <a:xfrm>
              <a:off x="1568520" y="2316240"/>
              <a:ext cx="159840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166920" y="2316240"/>
              <a:ext cx="279108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958000" y="2316240"/>
              <a:ext cx="168732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4" name="Eanrus1" descr=""/>
          <p:cNvPicPr/>
          <p:nvPr/>
        </p:nvPicPr>
        <p:blipFill>
          <a:blip r:embed="rId3"/>
          <a:stretch/>
        </p:blipFill>
        <p:spPr>
          <a:xfrm>
            <a:off x="7162920" y="5867280"/>
            <a:ext cx="168588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8956800" y="3733920"/>
            <a:ext cx="168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3657600" y="6172200"/>
            <a:ext cx="273060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 CYR"/>
              </a:rPr>
              <a:t>Правовое обеспечение сертификации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по Федеральному Закону «О техническом регулировании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228600" y="1752480"/>
            <a:ext cx="86868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 CYR"/>
              </a:rPr>
              <a:t>	</a:t>
            </a:r>
            <a:r>
              <a:rPr b="1" lang="ru-RU" sz="1600" spc="-1" strike="noStrike">
                <a:solidFill>
                  <a:srgbClr val="800000"/>
                </a:solidFill>
                <a:latin typeface="Arial CYR"/>
              </a:rPr>
              <a:t>	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Добровольное подтверждение соответствия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51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Добровольное подтверждение соответствия осуществляется по инициативе заявителя на условиях договора между заявителем и органом по сертифика</a:t>
            </a:r>
            <a:r>
              <a:rPr b="0" i="1" lang="ru-RU" sz="1800" spc="-1" strike="noStrike">
                <a:solidFill>
                  <a:srgbClr val="339933"/>
                </a:solidFill>
                <a:latin typeface="Times New Roman"/>
              </a:rPr>
              <a:t>-</a:t>
            </a:r>
            <a:r>
              <a:rPr b="0" i="1" lang="ru-RU" sz="1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ции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51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Добровольное подтверждение соответствия может осуществляться для ус</a:t>
            </a:r>
            <a:r>
              <a:rPr b="0" i="1" lang="ru-RU" sz="1800" spc="-1" strike="noStrike">
                <a:solidFill>
                  <a:srgbClr val="339933"/>
                </a:solidFill>
                <a:latin typeface="Times New Roman"/>
              </a:rPr>
              <a:t>-</a:t>
            </a:r>
            <a:r>
              <a:rPr b="0" i="1" lang="ru-RU" sz="1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тановления соответствия национальным стандартам, стандартам органи</a:t>
            </a:r>
            <a:r>
              <a:rPr b="0" i="1" lang="ru-RU" sz="1800" spc="-1" strike="noStrike">
                <a:solidFill>
                  <a:srgbClr val="339933"/>
                </a:solidFill>
                <a:latin typeface="Times New Roman"/>
              </a:rPr>
              <a:t>-</a:t>
            </a:r>
            <a:r>
              <a:rPr b="0" i="1" lang="ru-RU" sz="1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заций, системам добровольной сертификации, условиям договор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51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Объектами добровольного подтверждения соответствия являются продук</a:t>
            </a:r>
            <a:r>
              <a:rPr b="0" i="1" lang="ru-RU" sz="1800" spc="-1" strike="noStrike">
                <a:solidFill>
                  <a:srgbClr val="339933"/>
                </a:solidFill>
                <a:latin typeface="Times New Roman"/>
              </a:rPr>
              <a:t>-</a:t>
            </a:r>
            <a:r>
              <a:rPr b="0" i="1" lang="ru-RU" sz="1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ция, процессы производства, эксплуатации, хранения, перевозки, реализации и утилизации, работы и услуги, а также иные объекты, в отношении которых стандартами, системами добровольной сертификации и договорами устанав</a:t>
            </a:r>
            <a:r>
              <a:rPr b="0" i="1" lang="ru-RU" sz="1800" spc="-1" strike="noStrike">
                <a:solidFill>
                  <a:srgbClr val="339933"/>
                </a:solidFill>
                <a:latin typeface="Times New Roman"/>
              </a:rPr>
              <a:t>-</a:t>
            </a:r>
            <a:r>
              <a:rPr b="0" i="1" lang="ru-RU" sz="1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ливаются требования.</a:t>
            </a:r>
            <a:br>
              <a:rPr sz="1800"/>
            </a:br>
            <a:r>
              <a:rPr b="0" i="1" lang="ru-RU" sz="1800" spc="-1" strike="noStrike">
                <a:solidFill>
                  <a:srgbClr val="339933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143000" y="5943600"/>
          <a:ext cx="1371600" cy="71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5943600"/>
                    <a:ext cx="13716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1500120" y="3124080"/>
            <a:ext cx="1598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568520" y="2316240"/>
            <a:ext cx="6076800" cy="853920"/>
            <a:chOff x="1568520" y="2316240"/>
            <a:chExt cx="6076800" cy="853920"/>
          </a:xfrm>
        </p:grpSpPr>
        <p:sp>
          <p:nvSpPr>
            <p:cNvPr id="83" name=""/>
            <p:cNvSpPr/>
            <p:nvPr/>
          </p:nvSpPr>
          <p:spPr>
            <a:xfrm>
              <a:off x="1568520" y="2316240"/>
              <a:ext cx="159840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166920" y="2316240"/>
              <a:ext cx="279108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58000" y="2316240"/>
              <a:ext cx="168732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6" name="Eanrus1" descr=""/>
          <p:cNvPicPr/>
          <p:nvPr/>
        </p:nvPicPr>
        <p:blipFill>
          <a:blip r:embed="rId3"/>
          <a:stretch/>
        </p:blipFill>
        <p:spPr>
          <a:xfrm>
            <a:off x="7162920" y="5867280"/>
            <a:ext cx="1685880" cy="7621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8956800" y="3733920"/>
            <a:ext cx="168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657600" y="6172200"/>
            <a:ext cx="273060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 CYR"/>
              </a:rPr>
              <a:t>Правовое обеспечение сертификации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по Федеральному Закону «О техническом регулировании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04920" y="1752480"/>
            <a:ext cx="85341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 CYR"/>
                <a:ea typeface="Times New Roman"/>
              </a:rPr>
              <a:t>Знаки соответств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9933"/>
                </a:solidFill>
                <a:latin typeface="Arial CYR"/>
                <a:ea typeface="Times New Roman"/>
              </a:rPr>
              <a:t>Объекты сертификации, сертифицированные в системе добровольной</a:t>
            </a:r>
            <a:r>
              <a:rPr b="1" i="1" lang="ru-RU" sz="1800" spc="-1" strike="noStrike">
                <a:solidFill>
                  <a:srgbClr val="339933"/>
                </a:solidFill>
                <a:latin typeface="Arial CYR"/>
              </a:rPr>
              <a:t> с</a:t>
            </a:r>
            <a:r>
              <a:rPr b="1" i="1" lang="ru-RU" sz="1800" spc="-1" strike="noStrike">
                <a:solidFill>
                  <a:srgbClr val="339933"/>
                </a:solidFill>
                <a:latin typeface="Arial CYR"/>
                <a:ea typeface="Times New Roman"/>
              </a:rPr>
              <a:t>ертификации, могут маркироваться знаком соответствия системы</a:t>
            </a:r>
            <a:r>
              <a:rPr b="1" i="1" lang="ru-RU" sz="1800" spc="-1" strike="noStrike">
                <a:solidFill>
                  <a:srgbClr val="339933"/>
                </a:solidFill>
                <a:latin typeface="Arial CYR"/>
              </a:rPr>
              <a:t> д</a:t>
            </a:r>
            <a:r>
              <a:rPr b="1" i="1" lang="ru-RU" sz="1800" spc="-1" strike="noStrike">
                <a:solidFill>
                  <a:srgbClr val="339933"/>
                </a:solidFill>
                <a:latin typeface="Arial CYR"/>
                <a:ea typeface="Times New Roman"/>
              </a:rPr>
              <a:t>обровольной сертификации. Порядок применения такого знака соответ</a:t>
            </a:r>
            <a:r>
              <a:rPr b="1" i="1" lang="ru-RU" sz="1800" spc="-1" strike="noStrike">
                <a:solidFill>
                  <a:srgbClr val="339933"/>
                </a:solidFill>
                <a:latin typeface="Arial CYR"/>
              </a:rPr>
              <a:t>-</a:t>
            </a:r>
            <a:r>
              <a:rPr b="1" i="1" lang="ru-RU" sz="1800" spc="-1" strike="noStrike">
                <a:solidFill>
                  <a:srgbClr val="339933"/>
                </a:solidFill>
                <a:latin typeface="Arial CYR"/>
                <a:ea typeface="Times New Roman"/>
              </a:rPr>
              <a:t>ствия</a:t>
            </a:r>
            <a:r>
              <a:rPr b="1" i="1" lang="ru-RU" sz="1800" spc="-1" strike="noStrike">
                <a:solidFill>
                  <a:srgbClr val="339933"/>
                </a:solidFill>
                <a:latin typeface="Arial CYR"/>
              </a:rPr>
              <a:t> </a:t>
            </a:r>
            <a:r>
              <a:rPr b="1" i="1" lang="ru-RU" sz="1800" spc="-1" strike="noStrike">
                <a:solidFill>
                  <a:srgbClr val="339933"/>
                </a:solidFill>
                <a:latin typeface="Arial CYR"/>
                <a:ea typeface="Times New Roman"/>
              </a:rPr>
              <a:t>устанавливается правилами соответствующей системы доброво</a:t>
            </a:r>
            <a:r>
              <a:rPr b="1" i="1" lang="ru-RU" sz="1800" spc="-1" strike="noStrike">
                <a:solidFill>
                  <a:srgbClr val="339933"/>
                </a:solidFill>
                <a:latin typeface="Arial CYR"/>
              </a:rPr>
              <a:t>-</a:t>
            </a:r>
            <a:r>
              <a:rPr b="1" i="1" lang="ru-RU" sz="1800" spc="-1" strike="noStrike">
                <a:solidFill>
                  <a:srgbClr val="339933"/>
                </a:solidFill>
                <a:latin typeface="Arial CYR"/>
                <a:ea typeface="Times New Roman"/>
              </a:rPr>
              <a:t>льной</a:t>
            </a:r>
            <a:r>
              <a:rPr b="1" i="1" lang="ru-RU" sz="1800" spc="-1" strike="noStrike">
                <a:solidFill>
                  <a:srgbClr val="339933"/>
                </a:solidFill>
                <a:latin typeface="Arial CYR"/>
              </a:rPr>
              <a:t> </a:t>
            </a:r>
            <a:r>
              <a:rPr b="1" i="1" lang="ru-RU" sz="1800" spc="-1" strike="noStrike">
                <a:solidFill>
                  <a:srgbClr val="339933"/>
                </a:solidFill>
                <a:latin typeface="Arial CYR"/>
                <a:ea typeface="Times New Roman"/>
              </a:rPr>
              <a:t>сертификаци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CYR"/>
                <a:ea typeface="Times New Roman"/>
              </a:rPr>
              <a:t>Применение знака соответствия национальному стандарту</a:t>
            </a:r>
            <a:r>
              <a:rPr b="1" i="1" lang="ru-RU" sz="1800" spc="-1" strike="noStrike">
                <a:solidFill>
                  <a:srgbClr val="000000"/>
                </a:solidFill>
                <a:latin typeface="Arial CYR"/>
              </a:rPr>
              <a:t> о</a:t>
            </a:r>
            <a:r>
              <a:rPr b="1" i="1" lang="ru-RU" sz="1800" spc="-1" strike="noStrike">
                <a:solidFill>
                  <a:srgbClr val="000000"/>
                </a:solidFill>
                <a:latin typeface="Arial CYR"/>
                <a:ea typeface="Times New Roman"/>
              </a:rPr>
              <a:t>существля</a:t>
            </a:r>
            <a:r>
              <a:rPr b="1" i="1" lang="ru-RU" sz="1800" spc="-1" strike="noStrike">
                <a:solidFill>
                  <a:srgbClr val="000000"/>
                </a:solidFill>
                <a:latin typeface="Arial CYR"/>
              </a:rPr>
              <a:t>-</a:t>
            </a:r>
            <a:r>
              <a:rPr b="1" i="1" lang="ru-RU" sz="1800" spc="-1" strike="noStrike">
                <a:solidFill>
                  <a:srgbClr val="000000"/>
                </a:solidFill>
                <a:latin typeface="Arial CYR"/>
                <a:ea typeface="Times New Roman"/>
              </a:rPr>
              <a:t>ется</a:t>
            </a:r>
            <a:r>
              <a:rPr b="1" i="1" lang="ru-RU" sz="1800" spc="-1" strike="noStrike">
                <a:solidFill>
                  <a:srgbClr val="000000"/>
                </a:solidFill>
                <a:latin typeface="Arial CYR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 CYR"/>
                <a:ea typeface="Times New Roman"/>
              </a:rPr>
              <a:t>заявителем на добровольной основе любым удобным для</a:t>
            </a:r>
            <a:r>
              <a:rPr b="1" i="1" lang="ru-RU" sz="1800" spc="-1" strike="noStrike">
                <a:solidFill>
                  <a:srgbClr val="000000"/>
                </a:solidFill>
                <a:latin typeface="Arial CYR"/>
              </a:rPr>
              <a:t> за</a:t>
            </a:r>
            <a:r>
              <a:rPr b="1" i="1" lang="ru-RU" sz="1800" spc="-1" strike="noStrike">
                <a:solidFill>
                  <a:srgbClr val="000000"/>
                </a:solidFill>
                <a:latin typeface="Arial CYR"/>
                <a:ea typeface="Times New Roman"/>
              </a:rPr>
              <a:t>явителя способом в</a:t>
            </a:r>
            <a:r>
              <a:rPr b="1" i="1" lang="en-US" sz="1800" spc="-1" strike="noStrike">
                <a:solidFill>
                  <a:srgbClr val="000000"/>
                </a:solidFill>
                <a:latin typeface="Arial CYR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 CYR"/>
                <a:ea typeface="Times New Roman"/>
              </a:rPr>
              <a:t>порядке, установленном национальным органом по</a:t>
            </a:r>
            <a:r>
              <a:rPr b="1" i="1" lang="ru-RU" sz="1800" spc="-1" strike="noStrike">
                <a:solidFill>
                  <a:srgbClr val="000000"/>
                </a:solidFill>
                <a:latin typeface="Arial CYR"/>
              </a:rPr>
              <a:t> с</a:t>
            </a:r>
            <a:r>
              <a:rPr b="1" i="1" lang="ru-RU" sz="1800" spc="-1" strike="noStrike">
                <a:solidFill>
                  <a:srgbClr val="000000"/>
                </a:solidFill>
                <a:latin typeface="Arial CYR"/>
                <a:ea typeface="Times New Roman"/>
              </a:rPr>
              <a:t>тандар</a:t>
            </a:r>
            <a:r>
              <a:rPr b="1" i="1" lang="ru-RU" sz="1800" spc="-1" strike="noStrike">
                <a:solidFill>
                  <a:srgbClr val="000000"/>
                </a:solidFill>
                <a:latin typeface="Arial CYR"/>
              </a:rPr>
              <a:t>-</a:t>
            </a:r>
            <a:r>
              <a:rPr b="1" i="1" lang="ru-RU" sz="1800" spc="-1" strike="noStrike">
                <a:solidFill>
                  <a:srgbClr val="000000"/>
                </a:solidFill>
                <a:latin typeface="Arial CYR"/>
                <a:ea typeface="Times New Roman"/>
              </a:rPr>
              <a:t>тизаци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143000" y="5943600"/>
          <a:ext cx="1371600" cy="71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5943600"/>
                    <a:ext cx="13716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1500120" y="3124080"/>
            <a:ext cx="1598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568520" y="2316240"/>
            <a:ext cx="6076800" cy="853920"/>
            <a:chOff x="1568520" y="2316240"/>
            <a:chExt cx="6076800" cy="853920"/>
          </a:xfrm>
        </p:grpSpPr>
        <p:sp>
          <p:nvSpPr>
            <p:cNvPr id="95" name=""/>
            <p:cNvSpPr/>
            <p:nvPr/>
          </p:nvSpPr>
          <p:spPr>
            <a:xfrm>
              <a:off x="1568520" y="2316240"/>
              <a:ext cx="159840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166920" y="2316240"/>
              <a:ext cx="279108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58000" y="2316240"/>
              <a:ext cx="168732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8" name="Eanrus1" descr=""/>
          <p:cNvPicPr/>
          <p:nvPr/>
        </p:nvPicPr>
        <p:blipFill>
          <a:blip r:embed="rId3"/>
          <a:stretch/>
        </p:blipFill>
        <p:spPr>
          <a:xfrm>
            <a:off x="7162920" y="5867280"/>
            <a:ext cx="1685880" cy="7621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8956800" y="3733920"/>
            <a:ext cx="168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3657600" y="6172200"/>
            <a:ext cx="273060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 CYR"/>
              </a:rPr>
              <a:t>Правовое обеспечение сертификации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по Федеральному Закону «О техническом регулировании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04920" y="1752480"/>
            <a:ext cx="85341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9933"/>
                </a:solidFill>
                <a:latin typeface="Arial"/>
                <a:ea typeface="Times New Roman"/>
              </a:rPr>
              <a:t>Декларирование соответствия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"/>
                <a:ea typeface="Times New Roman"/>
              </a:rPr>
              <a:t>Декларирование соответствия осуществляется по одной из следующих схем:</a:t>
            </a:r>
            <a:br>
              <a:rPr sz="1400"/>
            </a:b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Times New Roman"/>
              </a:rPr>
              <a:t>- </a:t>
            </a:r>
            <a:r>
              <a:rPr b="1" lang="ru-RU" sz="1400" spc="-1" strike="noStrike">
                <a:solidFill>
                  <a:srgbClr val="800000"/>
                </a:solidFill>
                <a:latin typeface="Arial"/>
                <a:ea typeface="Times New Roman"/>
              </a:rPr>
              <a:t>принятие декларации о соответствии на основании собственных доказательств;</a:t>
            </a:r>
            <a:br>
              <a:rPr sz="1400"/>
            </a:b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Times New Roman"/>
              </a:rPr>
              <a:t>- </a:t>
            </a:r>
            <a:r>
              <a:rPr b="1" lang="ru-RU" sz="1400" spc="-1" strike="noStrike">
                <a:solidFill>
                  <a:srgbClr val="800000"/>
                </a:solidFill>
                <a:latin typeface="Arial"/>
                <a:ea typeface="Times New Roman"/>
              </a:rPr>
              <a:t>принятие декларации о соответствии на основании собственных доказательств, </a:t>
            </a: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д</a:t>
            </a:r>
            <a:r>
              <a:rPr b="1" lang="ru-RU" sz="1400" spc="-1" strike="noStrike">
                <a:solidFill>
                  <a:srgbClr val="800000"/>
                </a:solidFill>
                <a:latin typeface="Arial"/>
                <a:ea typeface="Times New Roman"/>
              </a:rPr>
              <a:t>оказатель</a:t>
            </a: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-</a:t>
            </a:r>
            <a:r>
              <a:rPr b="1" lang="ru-RU" sz="1400" spc="-1" strike="noStrike">
                <a:solidFill>
                  <a:srgbClr val="800000"/>
                </a:solidFill>
                <a:latin typeface="Arial"/>
                <a:ea typeface="Times New Roman"/>
              </a:rPr>
              <a:t>ств, полученных с участием органа по сертификации и (или) аккредитованной испытатель</a:t>
            </a: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-</a:t>
            </a:r>
            <a:r>
              <a:rPr b="1" lang="ru-RU" sz="1400" spc="-1" strike="noStrike">
                <a:solidFill>
                  <a:srgbClr val="800000"/>
                </a:solidFill>
                <a:latin typeface="Arial"/>
                <a:ea typeface="Times New Roman"/>
              </a:rPr>
              <a:t>ной лаборатории (центра) (далее - третья сторона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"/>
                <a:ea typeface="Times New Roman"/>
              </a:rPr>
              <a:t>Декларация о соответствии оформляется на русском языке и должна содержать:</a:t>
            </a:r>
            <a:br>
              <a:rPr sz="1400"/>
            </a:b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- </a:t>
            </a:r>
            <a:r>
              <a:rPr b="1" lang="ru-RU" sz="1400" spc="-1" strike="noStrike">
                <a:solidFill>
                  <a:srgbClr val="800000"/>
                </a:solidFill>
                <a:latin typeface="Arial"/>
                <a:ea typeface="Times New Roman"/>
              </a:rPr>
              <a:t>наименование и местонахождение заявителя;</a:t>
            </a:r>
            <a:br>
              <a:rPr sz="1400"/>
            </a:b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- </a:t>
            </a:r>
            <a:r>
              <a:rPr b="1" lang="ru-RU" sz="1400" spc="-1" strike="noStrike">
                <a:solidFill>
                  <a:srgbClr val="800000"/>
                </a:solidFill>
                <a:latin typeface="Arial"/>
                <a:ea typeface="Times New Roman"/>
              </a:rPr>
              <a:t>наименование и местонахождение изготовителя;</a:t>
            </a:r>
            <a:br>
              <a:rPr sz="1400"/>
            </a:b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- </a:t>
            </a:r>
            <a:r>
              <a:rPr b="1" lang="ru-RU" sz="1400" spc="-1" strike="noStrike">
                <a:solidFill>
                  <a:srgbClr val="800000"/>
                </a:solidFill>
                <a:latin typeface="Arial"/>
                <a:ea typeface="Times New Roman"/>
              </a:rPr>
              <a:t>информацию об объекте подтверждения соответствия, позволяющую идентифицировать этот объект;</a:t>
            </a:r>
            <a:br>
              <a:rPr sz="1400"/>
            </a:b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- </a:t>
            </a:r>
            <a:r>
              <a:rPr b="1" lang="ru-RU" sz="1400" spc="-1" strike="noStrike">
                <a:solidFill>
                  <a:srgbClr val="800000"/>
                </a:solidFill>
                <a:latin typeface="Arial"/>
                <a:ea typeface="Times New Roman"/>
              </a:rPr>
              <a:t>наименование технического регламента, на соответствие требованиям которого подтвержда</a:t>
            </a: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-</a:t>
            </a:r>
            <a:r>
              <a:rPr b="1" lang="ru-RU" sz="1400" spc="-1" strike="noStrike">
                <a:solidFill>
                  <a:srgbClr val="800000"/>
                </a:solidFill>
                <a:latin typeface="Arial"/>
                <a:ea typeface="Times New Roman"/>
              </a:rPr>
              <a:t>ется продукция;</a:t>
            </a:r>
            <a:br>
              <a:rPr sz="1400"/>
            </a:b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- </a:t>
            </a:r>
            <a:r>
              <a:rPr b="1" lang="ru-RU" sz="1400" spc="-1" strike="noStrike">
                <a:solidFill>
                  <a:srgbClr val="800000"/>
                </a:solidFill>
                <a:latin typeface="Arial"/>
                <a:ea typeface="Times New Roman"/>
              </a:rPr>
              <a:t>срок действия декларации о соответствии</a:t>
            </a: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143000" y="5943600"/>
          <a:ext cx="1371600" cy="71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5943600"/>
                    <a:ext cx="13716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1500120" y="3124080"/>
            <a:ext cx="1598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568520" y="2316240"/>
            <a:ext cx="6076800" cy="853920"/>
            <a:chOff x="1568520" y="2316240"/>
            <a:chExt cx="6076800" cy="853920"/>
          </a:xfrm>
        </p:grpSpPr>
        <p:sp>
          <p:nvSpPr>
            <p:cNvPr id="107" name=""/>
            <p:cNvSpPr/>
            <p:nvPr/>
          </p:nvSpPr>
          <p:spPr>
            <a:xfrm>
              <a:off x="1568520" y="2316240"/>
              <a:ext cx="159840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166920" y="2316240"/>
              <a:ext cx="279108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958000" y="2316240"/>
              <a:ext cx="168732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0" name="Eanrus1" descr=""/>
          <p:cNvPicPr/>
          <p:nvPr/>
        </p:nvPicPr>
        <p:blipFill>
          <a:blip r:embed="rId3"/>
          <a:stretch/>
        </p:blipFill>
        <p:spPr>
          <a:xfrm>
            <a:off x="7162920" y="5867280"/>
            <a:ext cx="168588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8956800" y="3733920"/>
            <a:ext cx="168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3657600" y="6172200"/>
            <a:ext cx="273060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 CYR"/>
              </a:rPr>
              <a:t>Правовое обеспечение сертификации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по Федеральному Закону «О техническом регулировании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04920" y="1752480"/>
            <a:ext cx="85341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знание результатов подтверждения соответствия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1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Полученные за пределами территории Российской Федерации документы 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1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подтверждении соответствия, знаки соответствия, протоколы исследован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1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испытаний) и измерений продукции могут быть признаны в соответствии с</a:t>
            </a:r>
            <a:r>
              <a:rPr b="1" lang="ru-RU" sz="18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международными договорами Российской Федераци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143000" y="5943600"/>
          <a:ext cx="1371600" cy="71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5943600"/>
                    <a:ext cx="13716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1500120" y="3124080"/>
            <a:ext cx="1598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568520" y="2316240"/>
            <a:ext cx="6076800" cy="853920"/>
            <a:chOff x="1568520" y="2316240"/>
            <a:chExt cx="6076800" cy="853920"/>
          </a:xfrm>
        </p:grpSpPr>
        <p:sp>
          <p:nvSpPr>
            <p:cNvPr id="119" name=""/>
            <p:cNvSpPr/>
            <p:nvPr/>
          </p:nvSpPr>
          <p:spPr>
            <a:xfrm>
              <a:off x="1568520" y="2316240"/>
              <a:ext cx="159840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166920" y="2316240"/>
              <a:ext cx="279108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958000" y="2316240"/>
              <a:ext cx="168732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2" name="Eanrus1" descr=""/>
          <p:cNvPicPr/>
          <p:nvPr/>
        </p:nvPicPr>
        <p:blipFill>
          <a:blip r:embed="rId3"/>
          <a:stretch/>
        </p:blipFill>
        <p:spPr>
          <a:xfrm>
            <a:off x="7162920" y="5867280"/>
            <a:ext cx="1685880" cy="7621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8956800" y="3733920"/>
            <a:ext cx="168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3657600" y="6172200"/>
            <a:ext cx="273060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 CYR"/>
              </a:rPr>
              <a:t>Система добровольной сертификации средств автоматической идентификации (СС САИ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304920" y="1752480"/>
            <a:ext cx="85341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143000" y="5943600"/>
          <a:ext cx="1371600" cy="71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5943600"/>
                    <a:ext cx="13716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1500120" y="3124080"/>
            <a:ext cx="1598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568520" y="2316240"/>
            <a:ext cx="6076800" cy="853920"/>
            <a:chOff x="1568520" y="2316240"/>
            <a:chExt cx="6076800" cy="853920"/>
          </a:xfrm>
        </p:grpSpPr>
        <p:sp>
          <p:nvSpPr>
            <p:cNvPr id="131" name=""/>
            <p:cNvSpPr/>
            <p:nvPr/>
          </p:nvSpPr>
          <p:spPr>
            <a:xfrm>
              <a:off x="1568520" y="2316240"/>
              <a:ext cx="159840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166920" y="2316240"/>
              <a:ext cx="279108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958000" y="2316240"/>
              <a:ext cx="168732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4" name="Eanrus1" descr=""/>
          <p:cNvPicPr/>
          <p:nvPr/>
        </p:nvPicPr>
        <p:blipFill>
          <a:blip r:embed="rId3"/>
          <a:stretch/>
        </p:blipFill>
        <p:spPr>
          <a:xfrm>
            <a:off x="7162920" y="5867280"/>
            <a:ext cx="1685880" cy="7621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8956800" y="3733920"/>
            <a:ext cx="168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3657600" y="6172200"/>
            <a:ext cx="2730600" cy="4446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57200" y="1295280"/>
            <a:ext cx="8229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ОБЩИЕ ПОЛОЖЕНИ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1676520"/>
            <a:ext cx="8305920" cy="32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539640" algn="just">
              <a:lnSpc>
                <a:spcPct val="150000"/>
              </a:lnSpc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СС САИ предназначена для проведения добровольной сертификации отечественных и зарубежных средств автоматической идентификации, их составных частей, соответствующего программного обеспечения, продукции, использующей технологии автоматической идентификаци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539640" algn="just">
              <a:lnSpc>
                <a:spcPct val="150000"/>
              </a:lnSpc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Номенклатура продукции может расширяться в установленном порядке по мере появления на рынке новых средств, относящихся к области деятельности СС СА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 CYR"/>
              </a:rPr>
              <a:t>Система добровольной сертификации средств автоматической идентификации (СС САИ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04920" y="1752480"/>
            <a:ext cx="85341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143000" y="5943600"/>
          <a:ext cx="1371600" cy="71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5943600"/>
                    <a:ext cx="13716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1500120" y="3124080"/>
            <a:ext cx="1598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568520" y="2316240"/>
            <a:ext cx="6076800" cy="853920"/>
            <a:chOff x="1568520" y="2316240"/>
            <a:chExt cx="6076800" cy="853920"/>
          </a:xfrm>
        </p:grpSpPr>
        <p:sp>
          <p:nvSpPr>
            <p:cNvPr id="145" name=""/>
            <p:cNvSpPr/>
            <p:nvPr/>
          </p:nvSpPr>
          <p:spPr>
            <a:xfrm>
              <a:off x="1568520" y="2316240"/>
              <a:ext cx="159840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166920" y="2316240"/>
              <a:ext cx="279108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58000" y="2316240"/>
              <a:ext cx="168732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8" name="Eanrus1" descr=""/>
          <p:cNvPicPr/>
          <p:nvPr/>
        </p:nvPicPr>
        <p:blipFill>
          <a:blip r:embed="rId3"/>
          <a:stretch/>
        </p:blipFill>
        <p:spPr>
          <a:xfrm>
            <a:off x="7162920" y="5867280"/>
            <a:ext cx="1685880" cy="7621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8956800" y="3733920"/>
            <a:ext cx="168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3657600" y="6172200"/>
            <a:ext cx="2730600" cy="4446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57200" y="1295280"/>
            <a:ext cx="8229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ОБЩИЕ ПОЛОЖЕНИ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676520"/>
            <a:ext cx="8305920" cy="42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Основной целью СС САИ является создания условий для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539640" algn="just">
              <a:lnSpc>
                <a:spcPct val="140000"/>
              </a:lnSpc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внедрения систем автоматической идентификации, включая штриховое кодирование, и компетентного выбора их на едином товарном рынке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539640" algn="just">
              <a:lnSpc>
                <a:spcPct val="140000"/>
              </a:lnSpc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участия в международном экономическом, научно-техническом сотрудничестве и международной торговле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539640" algn="just">
              <a:lnSpc>
                <a:spcPct val="140000"/>
              </a:lnSpc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подтверждение показателей качества заявленных изготовителями средств автоматической идентификаци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539640" algn="just">
              <a:lnSpc>
                <a:spcPct val="140000"/>
              </a:lnSpc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взаимного обмена информацией на региональном и международном уровне, а также при двустороннем и многостороннем сотрудничестве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539640" algn="just">
              <a:lnSpc>
                <a:spcPct val="140000"/>
              </a:lnSpc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развития работ по добровольной сертификации в Российской Федераци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2T13:49:49Z</dcterms:created>
  <dc:creator>Vjacheslav N.Vassiliev</dc:creator>
  <dc:description/>
  <dc:language>en-US</dc:language>
  <cp:lastModifiedBy>Vjacheslav N.Vassiliev</cp:lastModifiedBy>
  <dcterms:modified xsi:type="dcterms:W3CDTF">2003-11-23T18:05:41Z</dcterms:modified>
  <cp:revision>10</cp:revision>
  <dc:subject/>
  <dc:title>Презентация PowerPoint</dc:title>
</cp:coreProperties>
</file>