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8A675-9C8A-4BB3-BEE1-E8E3AE42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8CC05-E619-4E82-BBB8-2762435D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0BDAD-9B8E-4FB7-BD0C-63167882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1D938-DE00-4736-BA18-127D2ABE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DACC-2E57-4403-8F74-253D07FE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5658-D8A9-4CA6-8FB5-4854D1EA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3D01-06ED-4B3F-A64A-CE0EC5CD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B8FE-0048-47FD-A918-61D522D9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5730-FAD2-48E8-9DEF-E05A5371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39B2-F5E0-47E0-A249-B3B3A252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8E3D-A404-4A4A-AF4A-55B477FA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D6349-28A8-4D40-8EE6-F6574D9F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F8B9-9767-4484-8242-14C8DD29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2116-21B8-470F-BAA6-667B8C50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081F-9325-4B29-8F3C-1DB10B85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DEA9-E46B-4F5A-9DCD-AB61E691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2494-6B89-42C0-942A-47E7EFDA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E84B2-5265-44FB-863A-4E37CDE1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CD856-2465-40E7-A925-498B2B04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A9DDA-7B31-43B6-8B0E-A433CEC6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D382-53BF-49C1-A3C5-C3B70F7A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58AC8-D06E-4CE4-A193-4A95D9FA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8D422-E89E-4B00-B7FC-43B5DDE4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176C5-5115-4DAD-9263-FD02B769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45ED-9950-4B16-A650-2BAC921130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324000" y="5950080"/>
            <a:ext cx="148572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5D2E-36AE-4A74-A606-63347699D1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верификации штриховых кодов систем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N.UCC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деятельност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R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ссия</a:t>
            </a: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сед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IM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с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 ноября 2003 г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с) 2003 ААИ ЮНИСКА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12D5-F561-4211-9ED5-1290E3EBC7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R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Consumer Response (ECR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новая методика организации торговых процессов, позволяющая оптимизировать цепь поставок совместными усилиями ритейлеров, производителей, поставщиков с ориентацией на запросы потребите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с) 2003 ААИ ЮНИСКА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097A0-8D04-44DB-90DD-7B29D34528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ль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N.UCC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стратегии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обальные стандарт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N.UC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беспечивают выполнение основных принципо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циональные организа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R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Европе, Азии, Австралии успешно использую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NCOM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честве стандар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цепи постав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с) 2003 ААИ ЮНИСКА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80FC2-5408-4D32-B5A5-7588050ECD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ификация штриховых кодов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N.UCC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 рамках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интересованность компаний розничной торговли в проведении верификации среди поставщ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ассмотрение руководителей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Auchan, METRO Cash &amp; Carry,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Пятерочка, Копей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ложен документ о включении вопроса верификации в стандартный договор с поставщ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абрь 2003 г. - январь 2004 г. – согласование и выработка дальнейшей программы действий с руководителями ритейле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с) 2003 ААИ ЮНИСКА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27576-ED18-414D-8BE1-21EF72E37E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11:32:09Z</dcterms:created>
  <dc:creator>Philipp Degtjarev</dc:creator>
  <dc:description/>
  <dc:language>en-US</dc:language>
  <cp:lastModifiedBy>Philipp Degtjarev</cp:lastModifiedBy>
  <dcterms:modified xsi:type="dcterms:W3CDTF">2003-11-24T09:50:04Z</dcterms:modified>
  <cp:revision>3</cp:revision>
  <dc:subject/>
  <dc:title>Вопросы верификации штриховых кодов системы EAN.UCC в деятельности ECR Россия  Эксперт ААИ ЮНИСКАН  Дегтярев Ф.Б. Секретариат ECR Россия</dc:title>
</cp:coreProperties>
</file>