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58D-4E32-42A3-9227-01153178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C4A-28FC-4E0E-A27D-6718BEBE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732-509C-4DB1-ABF5-08465855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B28A-EB81-4BAA-85ED-C6877A2B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06D5-794E-4BA4-B4E7-5664546A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591-9314-42B2-BDF6-305D5973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676-9462-413B-9A2E-4E14008E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BE7-A7F2-4352-8D0B-86CE4932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35D-A507-49DC-B94A-5510CC62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AFA-D9ED-4281-A87E-769AFB40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539D-8CAB-4973-AC67-65648182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844-0130-4E9C-9018-BC684777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F55F-19EA-4DEA-AA62-FDE36BE36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144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ander S.Goularia</cp:lastModifiedBy>
  <dcterms:modified xsi:type="dcterms:W3CDTF">2003-11-26T12:38:13Z</dcterms:modified>
  <cp:revision>3</cp:revision>
  <dc:subject/>
  <dc:title>Презентация PowerPoint</dc:title>
</cp:coreProperties>
</file>