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E02-C691-492A-B252-8A27277D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DF3-13F4-4F89-9225-CD052B26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E6B-28EE-44DE-ADEA-EFFE9B0B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A5E9-FA13-4874-9506-542B626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BBB4-34BC-4268-B1C8-ABA7CF1D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D48F-BC75-4B52-A239-76C948C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535-20D4-4892-A497-521BCB6F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21C-327F-4A67-93F6-C9A0AC11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010-7831-44E1-8EA0-452FBE55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B685-DB5C-460A-AC75-9D748C1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2B7-0C18-473A-8AF8-261A374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6DD-096C-487A-A11E-FCF74B45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862-75F4-4F69-8EDD-63678B73A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Цели подтверждения соответствия</a:t>
            </a:r>
            <a:r>
              <a:rPr b="1" lang="ru-RU" sz="2000" spc="-1" strike="noStrike">
                <a:solidFill>
                  <a:srgbClr val="339933"/>
                </a:solidFill>
                <a:latin typeface="Arial CYR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 CY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удостоверения соответствия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процессов производства, эксплуатации, хранения, перевозки, реализации и утилизации, работ, услуг или иных объектов техническим регламентам,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тандартам, условиям договоров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одейств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обретателям в компетентном выборе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работ, услуг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овышен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конкурентоспособности продук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работ, услуг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а российском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 и международном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рынках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;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оздани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</a:rPr>
              <a:t>е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 условий для обеспечения свободного перемещения товаров по территории Российской Федераци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а также для осуществления международного экономичес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кого, научно-технического сотрудничества и </a:t>
            </a:r>
            <a:r>
              <a:rPr b="0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международной торговли</a:t>
            </a:r>
            <a:r>
              <a:rPr b="0" i="1" lang="ru-RU" sz="1800" spc="-1" strike="noStrike">
                <a:solidFill>
                  <a:srgbClr val="800000"/>
                </a:solidFill>
                <a:latin typeface="Arial CYR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Н.Васильев, эксперт по сертификации радиоэлектронной техники и средств связ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ы сертификации ГОСТ 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4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5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676520"/>
            <a:ext cx="83059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ция продукции в СС САИ проводится на соответствие требованиям нормативных документов, указанных заявител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ТРУКТУР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7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30592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рганизационную структуру СС САИ составляют</a:t>
            </a:r>
            <a:r>
              <a:rPr b="0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АИ ЮНИСКАН - юридическое лицо, образовавшее СС СА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ентральный орган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ЦО)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 базе юридического лица, образовавшего систему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д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ровольной сертификации - ААИ ЮНИСКА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аучно-методический центр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МНЦ)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- подразделение ААИ ЮНИСКАН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Уполномоченные О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ганы по сертификации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ОС)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8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Аккредитованные 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спытательные лаборатории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</a:rPr>
              <a:t> (ИЛ)</a:t>
            </a:r>
            <a:r>
              <a:rPr b="1" lang="ru-RU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ТРУКТУРА СИСТ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8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76520"/>
            <a:ext cx="8305920" cy="39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должны удовлетворять следующим условия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штате ОС экспертов по сертификации продукции, имеющими соответствующее образование и стаж работы в области сертификации продукции не менее 3 лет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наличии документированную систему качества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75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иметь в распоряжении нормативные документы в соответствии с перечнем видов сертифицируемой продукции и парамет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РЯДОК СЕРТИФИКАЦИИ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0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676520"/>
            <a:ext cx="83059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ция продукции включает следующие этап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ача заявки на сертификацию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нятие решения по заявке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тбор и идентификация образцов, их испыт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нализ состояния производства или сертификация системы качества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отрено схемой сертификации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нятие решения о возможности выдачи сертификат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формление сертификата и разрешения на применение знака соответств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егистрация сертификата в Реестре СС СА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ведение инспекционного контроля за сертифицированной продукцией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едусмотрено схемой сертификаци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ведение корректирующих мероприятий в случаях нарушения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становленных требований к сертифицированной продукции или правил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менения знака СС САИ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ОРМАТИВНАЯ БАЗА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1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76520"/>
            <a:ext cx="83059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еятельность Системы сертификации средств автоматической идентификации базируется на следующих основных нормативных документах применительно к номенклатуре продукции, сертифицируемой в СС СА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Государственные (ГОСТ Р) и межгосударственные (ГОСТ) стандарты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серии ISO 9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ИСО/МЭ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Европейские стандарты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CEN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N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9933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е стандарты (технические спецификации)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AIM Inc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 и </a:t>
            </a: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EAN International</a:t>
            </a:r>
            <a:r>
              <a:rPr b="0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ИЗНАНИЕ  РЕЗУЛЬТАТОВ  ИСПЫТАНИИ  И </a:t>
            </a:r>
            <a:br>
              <a:rPr sz="1600"/>
            </a:b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ТОВ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</a:rPr>
              <a:t>(ДЕКЛАРАЦИЙ О ПОДТВЕРЖДЕНИИ СООТВЕТСТВИЯ) </a:t>
            </a:r>
            <a:r>
              <a:rPr b="1" lang="en-US" sz="16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РУГИХ СИСТЕМ СЕРТИФИКАЦИИ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2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905120"/>
            <a:ext cx="8458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отокол испытаний лаборатории, аккредитованной в другой сис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еме сертификации, признается органом по сертификации СС САИ, если эта испытательная лаборатория наделена полномочиями в СС СА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ертификат соответствия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декларация о подтверждении соответст-вия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выданный органом по сертификации, аккредитованным в другой системе сертификаци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ли изготовителем САИ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может являться основа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ием для выдачи сертификата соответствия Системы при наличии спец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ального решения ЦО СС САИ о возможности признания этого сертиф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ката соответств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ФИНАНСИРОВАНИЕ РАБОТ В СИСТЕМЕ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4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190512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 algn="ctr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сходы, связанные с проведением сертификации, и инспекционног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контроля, несут заявите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словия оплаты определяются договором между заявителем и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рганом по сертификации, испытательной лабораторией. При этом оплата работ производится вне зависимости от их результа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боты по ведению Реестра СС САИ, архивному хранению материалов регистрации, обеспечению информацией о работах по сертификации, проводимых в СС САИ, финансируются за счет договоров с заявителя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ример целесообразности учета результатов добровольной сертификации на практик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5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920" y="190512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квозного процесса автоматизации магазина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бор формата торговл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оборудования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бор информационной системы (ИС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оединение ИС с технологией бизнес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ение оборудования и ПО для ИС;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недрение ИС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эксплуатация и развитие ИС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Примерные расценки работ по добровольной серт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7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1523880"/>
            <a:ext cx="845820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5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2 до 5 рабочих дне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7 - 45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 7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х дней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я по схеме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 3а - 1000 у.е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д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рабочих дне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При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ыполнен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и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О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по добровольной сертификации, входящим в струк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уру  СС САИ, работ по процедуре признания материалов и документов, подтверждающих соответствие САИ заявленным требованиям стандартов, в частности, Декларации о подтверждении соответствия с информацией о проведенных испытаниях,  суммарная стоимость экспертизы материалов и оформления Сертификата соответствия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СС САИ 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ожет составить – ориен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ировочно 150 у.е.- 250 у.е., при продолжительности работ -  от 3-х  до 5-ти рабочих дн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8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1523880"/>
            <a:ext cx="84582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ндар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C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2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ая идентификация и методы сбора данных - Испытание характеристик сканера и декодера штрихового кода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Устанавливает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испытательное оборудование и процедуры, которые нужно использовать, чтобы определить характеристики сканирующего и декодирующего оборудования штрихового к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О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яет требования относительно методов для сканирования и декодирования линейных символ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И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ет дело со сканирующим и декодирующим оборудованием штрихового кода, как с интегрированным в системы считывания, так и как с дискретными модуля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Times New Roman"/>
              </a:rPr>
              <a:t>О</a:t>
            </a:r>
            <a:r>
              <a:rPr b="1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ределяет характеристики оборудования в конкретной конфигурации (например, определенная модель), независимо от индивидуально используемых компонентов. Он также определяет в обязательном приложении средства классификации сканеров и эксплуатационные парамет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6197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Принципы подтверждения соответствия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</a:rPr>
              <a:t>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менения обязательного подтверждения соответствия к объектам, в отношении которых не установлены требования технических регламентов;</a:t>
            </a:r>
            <a:br>
              <a:rPr sz="2000"/>
            </a:br>
            <a:r>
              <a:rPr b="0" i="1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ринуждения к осуществлению добровольного подтверждения соответствия, в том числе в определенной сис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теме добровольной сертификации;</a:t>
            </a:r>
            <a:br>
              <a:rPr sz="2000"/>
            </a:br>
            <a:r>
              <a:rPr b="0" i="1" lang="ru-RU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допустимос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ь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 подмены обязательного подтверждения соот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ветствия добровольной сертификацией.</a:t>
            </a:r>
            <a:br>
              <a:rPr sz="2000"/>
            </a:b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одтверждение соответствия разрабатывается и применяется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равным образом и в равной мере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независимо от страны и (или) места происхождения продукции, осуществления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роцессов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произ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водства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, эксплуатации, хранения, перевозки,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реализации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 и утили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зации, выполнения работ и оказания услуг, видов или особенностей сделок и (или) 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иц, которые являются изготовителями, исполните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0" i="1" lang="ru-RU" sz="20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ями, продавцами, приобретателями.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5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29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4920" y="1523880"/>
            <a:ext cx="8610480" cy="47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ули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тандарт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42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ая идентификация и методы сбора данных - Испытание характеристик сканера и декодера штрихового кода” полож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сертификации, маркировке и испытаниям сканеров и декодеров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.0 Протокол испыт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Протокол испытаний должен включать запись условий проведения испытаний, конфигу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рацию оборудования, включая вспомогательное оборудование, как описано в п. 6.4 и таблице испытаний или используемые символы, вместе с результатами испытаний в соответствии с разделом 6.8.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Изготовитель оборудования должен делать копию протокола испытаний, до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тупного добросовестным  запросчикам по требованию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.0 Сертификация и маркир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Изготовитель должен включать вместе с документацией оборудования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декларацию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 о том, что </a:t>
            </a:r>
            <a:r>
              <a:rPr b="0" lang="ru-RU" sz="1600" spc="-1" strike="noStrike">
                <a:solidFill>
                  <a:srgbClr val="000000"/>
                </a:solidFill>
                <a:latin typeface="MS Sans Serif"/>
                <a:ea typeface="Times New Roman"/>
              </a:rPr>
              <a:t>оборудование было испытано в соответствии с этим международным стандартом</a:t>
            </a:r>
            <a:r>
              <a:rPr b="0" lang="ru-RU" sz="1600" spc="-1" strike="noStrike">
                <a:solidFill>
                  <a:srgbClr val="0033cc"/>
                </a:solidFill>
                <a:latin typeface="MS Sans Serif"/>
                <a:ea typeface="Times New Roman"/>
              </a:rPr>
              <a:t>. Изготовитель может присоединять этикетки к оборудованию, свидетельствующие о том, что оно было испытано в соответствии с этим международным стандартом. Никаких требований для этой этикетки не определено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испытываемых параметров при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1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452680" y="1704960"/>
          <a:ext cx="4238640" cy="344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52680" y="1704960"/>
                    <a:ext cx="423864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09480" y="5334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Пример зоны эффективного считывания (</a:t>
            </a:r>
            <a:r>
              <a:rPr b="1" lang="fr-FR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MNOP</a:t>
            </a: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Пример испытываемых параметров при сертификации сканеров штрихового к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30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908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066680" y="1752480"/>
          <a:ext cx="7162920" cy="281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752480"/>
                    <a:ext cx="7162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066680" y="457200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33"/>
                </a:solidFill>
                <a:latin typeface="Arial"/>
                <a:ea typeface="Times New Roman"/>
              </a:rPr>
              <a:t>Углы считы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Испытываемые параметры сканеров штрихового кода</a:t>
            </a:r>
            <a:br>
              <a:rPr sz="1800"/>
            </a:b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(по международному и национальному стандарт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348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1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526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908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1981080"/>
            <a:ext cx="7999920" cy="3352680"/>
            <a:chOff x="457200" y="1981080"/>
            <a:chExt cx="7999920" cy="3352680"/>
          </a:xfrm>
        </p:grpSpPr>
        <p:sp>
          <p:nvSpPr>
            <p:cNvPr id="358" name=""/>
            <p:cNvSpPr/>
            <p:nvPr/>
          </p:nvSpPr>
          <p:spPr>
            <a:xfrm>
              <a:off x="582480" y="241236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Разрешающая способность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1880" y="241236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33840" y="241236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95840" y="241236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2480" y="289944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Скорость сканирования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41880" y="289944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33840" y="289944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95840" y="289944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480" y="338616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Диаграмма считывания сканер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41880" y="338616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33840" y="338616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95840" y="338616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2480" y="387324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Разворот (символа штрихового код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41880" y="387324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33840" y="387324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95840" y="387324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2480" y="4360320"/>
              <a:ext cx="36590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Перекос (символа штрихового кода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41880" y="4360320"/>
              <a:ext cx="119196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33840" y="4360320"/>
              <a:ext cx="106164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95840" y="4360320"/>
              <a:ext cx="108432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S Sans Serif"/>
                  <a:ea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57200" y="1981080"/>
              <a:ext cx="3909240" cy="431280"/>
              <a:chOff x="457200" y="1981080"/>
              <a:chExt cx="3909240" cy="431280"/>
            </a:xfrm>
          </p:grpSpPr>
          <p:sp>
            <p:nvSpPr>
              <p:cNvPr id="379" name=""/>
              <p:cNvSpPr/>
              <p:nvPr/>
            </p:nvSpPr>
            <p:spPr>
              <a:xfrm>
                <a:off x="582480" y="1981080"/>
                <a:ext cx="3658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Параметр сканер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7200" y="1981080"/>
                <a:ext cx="390924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366800" y="1981080"/>
              <a:ext cx="1442880" cy="431280"/>
              <a:chOff x="4366800" y="1981080"/>
              <a:chExt cx="1442880" cy="431280"/>
            </a:xfrm>
          </p:grpSpPr>
          <p:sp>
            <p:nvSpPr>
              <p:cNvPr id="382" name=""/>
              <p:cNvSpPr/>
              <p:nvPr/>
            </p:nvSpPr>
            <p:spPr>
              <a:xfrm>
                <a:off x="4492080" y="1981080"/>
                <a:ext cx="119232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дн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ь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366800" y="1981080"/>
                <a:ext cx="144288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5810040" y="1981080"/>
              <a:ext cx="1311840" cy="431280"/>
              <a:chOff x="5810040" y="1981080"/>
              <a:chExt cx="1311840" cy="431280"/>
            </a:xfrm>
          </p:grpSpPr>
          <p:sp>
            <p:nvSpPr>
              <p:cNvPr id="385" name=""/>
              <p:cNvSpPr/>
              <p:nvPr/>
            </p:nvSpPr>
            <p:spPr>
              <a:xfrm>
                <a:off x="5935320" y="1981080"/>
                <a:ext cx="106056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Две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10040" y="1981080"/>
                <a:ext cx="131184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122600" y="1981080"/>
              <a:ext cx="1334520" cy="431280"/>
              <a:chOff x="7122600" y="1981080"/>
              <a:chExt cx="1334520" cy="431280"/>
            </a:xfrm>
          </p:grpSpPr>
          <p:sp>
            <p:nvSpPr>
              <p:cNvPr id="388" name=""/>
              <p:cNvSpPr/>
              <p:nvPr/>
            </p:nvSpPr>
            <p:spPr>
              <a:xfrm>
                <a:off x="7247520" y="1981080"/>
                <a:ext cx="108468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Три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ос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122600" y="1981080"/>
                <a:ext cx="1334520" cy="431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457200" y="4847040"/>
              <a:ext cx="3909240" cy="486720"/>
              <a:chOff x="457200" y="4847040"/>
              <a:chExt cx="3909240" cy="486720"/>
            </a:xfrm>
          </p:grpSpPr>
          <p:sp>
            <p:nvSpPr>
              <p:cNvPr id="391" name=""/>
              <p:cNvSpPr/>
              <p:nvPr/>
            </p:nvSpPr>
            <p:spPr>
              <a:xfrm>
                <a:off x="582480" y="4847040"/>
                <a:ext cx="365868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Крен (символа штрихового кода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57200" y="4847040"/>
                <a:ext cx="390924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4366800" y="4847040"/>
              <a:ext cx="1442880" cy="486720"/>
              <a:chOff x="4366800" y="4847040"/>
              <a:chExt cx="1442880" cy="486720"/>
            </a:xfrm>
          </p:grpSpPr>
          <p:sp>
            <p:nvSpPr>
              <p:cNvPr id="394" name=""/>
              <p:cNvSpPr/>
              <p:nvPr/>
            </p:nvSpPr>
            <p:spPr>
              <a:xfrm>
                <a:off x="4492080" y="4847040"/>
                <a:ext cx="119232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66800" y="4847040"/>
                <a:ext cx="144288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5810040" y="4847040"/>
              <a:ext cx="1311840" cy="486720"/>
              <a:chOff x="5810040" y="4847040"/>
              <a:chExt cx="1311840" cy="486720"/>
            </a:xfrm>
          </p:grpSpPr>
          <p:sp>
            <p:nvSpPr>
              <p:cNvPr id="397" name=""/>
              <p:cNvSpPr/>
              <p:nvPr/>
            </p:nvSpPr>
            <p:spPr>
              <a:xfrm>
                <a:off x="5935320" y="4847040"/>
                <a:ext cx="106056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10040" y="4847040"/>
                <a:ext cx="131184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122600" y="4847040"/>
              <a:ext cx="1334520" cy="486720"/>
              <a:chOff x="7122600" y="4847040"/>
              <a:chExt cx="1334520" cy="486720"/>
            </a:xfrm>
          </p:grpSpPr>
          <p:sp>
            <p:nvSpPr>
              <p:cNvPr id="400" name=""/>
              <p:cNvSpPr/>
              <p:nvPr/>
            </p:nvSpPr>
            <p:spPr>
              <a:xfrm>
                <a:off x="7247520" y="4847040"/>
                <a:ext cx="108468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MS Sans Serif"/>
                    <a:ea typeface="Times New Roman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22600" y="4847040"/>
                <a:ext cx="1334520" cy="486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Arial CYR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Формы подтверждения соответств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Подтверждение соответствия на территории Российской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Федерации может носить добровольный или обязательный харак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499"/>
              </a:spcBef>
              <a:buClr>
                <a:srgbClr val="ff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обровольное подтверждение соответствия осуществляется в форме добровольной сертификации.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Обязательное подтверждение соответствия осуществляется в формах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я декларации о соответствии (далее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ирование соответстви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</a:rPr>
              <a:t>- </a:t>
            </a:r>
            <a:r>
              <a:rPr b="0" i="1" lang="ru-RU" sz="2000" spc="-1" strike="noStrike">
                <a:solidFill>
                  <a:srgbClr val="800000"/>
                </a:solidFill>
                <a:latin typeface="Arial CYR"/>
                <a:ea typeface="Times New Roman"/>
              </a:rPr>
              <a:t>обязательной сертифик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7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2860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бровольное подтверждение соответствия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обровольное подтверждение соответствия осуществляется по инициативе заявителя на условиях договора между заявителем и органом по сертифика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Добровольное подтверждение соответствия может осуществляться для ус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тановления соответствия национальным стандартам, стандартам органи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заций, системам добровольной сертификации, условиям догово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бъектами добровольного подтверждения соответствия являются продук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ция, процессы производства, эксплуатации, хранения, перевозки, реализации и утилизации, работы и услуги, а также иные объекты, в отношении которых стандартами, системами добровольной сертификации и договорами устанав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-</a:t>
            </a:r>
            <a:r>
              <a:rPr b="0" i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ливаются требования.</a:t>
            </a:r>
            <a:br>
              <a:rPr sz="1800"/>
            </a:br>
            <a:r>
              <a:rPr b="0" i="1" lang="ru-RU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83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CYR"/>
                <a:ea typeface="Times New Roman"/>
              </a:rPr>
              <a:t>Знаки соответст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Объекты сертификации, сертифицированные в системе добровольной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с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ертификации, могут маркироваться знаком соответствия системы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д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обровольной сертификации. Порядок применения такого знака соответ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твия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устанавливается правилами соответствующей системы доброво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льной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339933"/>
                </a:solidFill>
                <a:latin typeface="Arial CYR"/>
                <a:ea typeface="Times New Roman"/>
              </a:rPr>
              <a:t>серт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CY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рименение знака соответствия национальному стандарту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о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уществл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етс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аявителем на добровольной основе любым удобным для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за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явителя способом в</a:t>
            </a:r>
            <a:r>
              <a:rPr b="1" i="1" lang="en-US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порядке, установленном национальным органом по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 с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тандар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т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9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Arial"/>
                <a:ea typeface="Times New Roman"/>
              </a:rPr>
              <a:t>Декларирование соответствия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ирование соответствия осуществляется по одной из следующих схем: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е декларации о соответствии на основании собственных доказательств;</a:t>
            </a:r>
            <a:br>
              <a:rPr sz="1400"/>
            </a:b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инятие декларации о соответствии на основании собственных доказательств,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оказатель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тв, полученных с участием органа по сертификации и (или) аккредитованной испытатель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ой лаборатории (центра) (далее - третья сторона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Декларация о соответствии оформляется на русском языке и должна содержать: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и местонахождение заявител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и местонахождение изготовител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информацию об объекте подтверждения соответствия, позволяющую идентифицировать этот объект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именование технического регламента, на соответствие требованиям которого подтвержда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ется продукция;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-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срок действия декларации о соответствии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07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Правовое обеспечение сертификации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о Федеральному Закону «О техническом регулирован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ние результатов подтверждения соответствия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лученные за пределами территории Российской Федерации документы 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тверждении соответствия, знаки соответствия, протоколы исследова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(испытаний) и измерений продукции могут быть признаны в соответствии с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еждународными договорам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19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2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31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30592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539640" algn="just">
              <a:lnSpc>
                <a:spcPct val="15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СС САИ предназначена для проведения добровольной сертификации отечественных и зарубежных средств автоматической идентификации, их составных частей, соответствующего программного обеспечения, продукции, использующей технологии автоматической идентифик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5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Номенклатура продукции может расширяться в установленном порядке по мере появления на рынке новых средств, относящихся к области деятельности СС СА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CYR"/>
              </a:rPr>
              <a:t>Система добровольной сертификации средств автоматической идентификации (СС СА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5943600"/>
          <a:ext cx="13716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943600"/>
                    <a:ext cx="13716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500120" y="3124080"/>
            <a:ext cx="1598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568520" y="2316240"/>
            <a:ext cx="6076800" cy="853920"/>
            <a:chOff x="1568520" y="2316240"/>
            <a:chExt cx="6076800" cy="853920"/>
          </a:xfrm>
        </p:grpSpPr>
        <p:sp>
          <p:nvSpPr>
            <p:cNvPr id="145" name=""/>
            <p:cNvSpPr/>
            <p:nvPr/>
          </p:nvSpPr>
          <p:spPr>
            <a:xfrm>
              <a:off x="1568520" y="2316240"/>
              <a:ext cx="159840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6920" y="2316240"/>
              <a:ext cx="27910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58000" y="2316240"/>
              <a:ext cx="16873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Eanrus1" descr=""/>
          <p:cNvPicPr/>
          <p:nvPr/>
        </p:nvPicPr>
        <p:blipFill>
          <a:blip r:embed="rId3"/>
          <a:stretch/>
        </p:blipFill>
        <p:spPr>
          <a:xfrm>
            <a:off x="7162920" y="5867280"/>
            <a:ext cx="168588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6800" y="3733920"/>
            <a:ext cx="168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657600" y="6172200"/>
            <a:ext cx="2730600" cy="444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ОБЩИЕ ПОЛО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305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Основной целью СС САИ является создания условий дл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недрения систем автоматической идентификации, включая штриховое кодирование, и компетентного выбора их на едином товарном рынк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участия в международном экономическом, научно-техническом сотрудничестве и международной торговл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подтверждение показателей качества заявленных изготовителями средств автоматической идентификаци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взаимного обмена информацией на региональном и международном уровне, а также при двустороннем и многостороннем сотрудничеств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539640" algn="just">
              <a:lnSpc>
                <a:spcPct val="140000"/>
              </a:lnSpc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развития работ по добровольной сертификации в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3:49:49Z</dcterms:created>
  <dc:creator>Vjacheslav N.Vassiliev</dc:creator>
  <dc:description/>
  <dc:language>en-US</dc:language>
  <cp:lastModifiedBy>Vjacheslav N.Vassiliev</cp:lastModifiedBy>
  <dcterms:modified xsi:type="dcterms:W3CDTF">2003-11-23T18:05:41Z</dcterms:modified>
  <cp:revision>10</cp:revision>
  <dc:subject/>
  <dc:title>Презентация PowerPoint</dc:title>
</cp:coreProperties>
</file>