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754B-7888-4FB4-A41B-73FFF561D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6BF6-752A-4BFB-9462-A3ABAB16A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D72D-48F2-417C-BEC6-A3154EBCD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7103-49B3-40C7-8DF0-4803A38A1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E428-47F8-4D78-B551-AFA70807A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8EA6-D27E-4C58-930D-1F453C591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2AFA-5DFF-47DC-8104-7E13B28E0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A60C-651E-49EA-8CA9-8989B8C5B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7626-A359-4261-B8D2-9DD7B477F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168D-B6FF-4B55-A115-6D01DC01F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B165-12E1-4859-93AE-5FD2610DB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3DE1-8D31-4413-A72E-8D7C9BEA3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5B776-20F9-4330-B1DE-C82C355EBC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0" y="144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ander S.Goularia</cp:lastModifiedBy>
  <dcterms:modified xsi:type="dcterms:W3CDTF">2003-11-26T12:38:13Z</dcterms:modified>
  <cp:revision>3</cp:revision>
  <dc:subject/>
  <dc:title>Презентация PowerPoint</dc:title>
</cp:coreProperties>
</file>