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067E4-AC9A-446B-B862-585D27BA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F05B-3644-48F9-9EDD-0F664513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7F71-9EB8-481E-8BDC-2DB438E5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55DD-577F-4994-9E85-BAD9ABF9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E718-77B6-459A-93CB-5F35C969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CEE5-EEAA-4547-BBBE-6DE531B6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40AF-3BE4-4692-B486-C2631D67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4A99-95CD-4509-BC32-474ECB03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BE1F-090C-4585-96B6-CFC32261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1920-6D1E-4423-96A9-4327E526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1C33-8F07-4351-8E60-1CEBA137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0C7D-9346-4598-8B8A-9A63F80A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90FB-A362-4A82-B1FA-7C1C0B04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E555-D0A7-43B0-A624-749404B5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9E14-6F8D-4B17-BB94-E6A60468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E2D6-AFC1-485F-BFAE-5FF4F9D7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F06C-54F1-4EA1-8F44-0CFBD447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E319-CD14-47EF-9B67-FCEACF47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9EAC-87AA-4289-9A1E-82825584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FF2E-E6BE-4B12-A29F-F5367EC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EA34-D48D-4BD3-ACC9-19C036F2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0CCF-CAFE-4ECD-BFC0-B8291E2C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1CEA-4E21-40AA-8B1C-0737FB2E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4CDA-A777-4A19-9C11-DCE9F63B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28B1-1372-4327-AFCA-9200A1680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14857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46B6-CF5E-4330-BD66-CBD50FF09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верификации штриховых кодов системы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N.UCC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деятельност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оссия</a:t>
            </a:r>
            <a:br>
              <a:rPr sz="4400"/>
            </a:b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сед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I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с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ноября 2003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с) 2003 ААИ ЮНИСКА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E564-E6FE-403B-B05D-D24BF95A27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Consumer Response (ECR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овая методика организации торговых процессов, позволяющая оптимизировать цепь поставок совместными усилиями ритейлеров, производителей, поставщиков с ориентацией на запросы потреб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с) 2003 ААИ ЮНИСКА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75686-3F94-4E38-BDB5-78F340061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ль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N.UCC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тратегии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обальные стандарт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N.UC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беспечивают выполнение основных принцип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ьные организа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R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вропе, Азии, Австралии успешно использую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NCOM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честве стандар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цепи постав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с) 2003 ААИ ЮНИСКА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DE05-1FCD-493D-B95A-2CC1FDD25E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ификация штриховых кодов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N.UCC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 рамках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интересованность компаний розничной торговли в проведении верификации среди поставщ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ссмотрение руководителей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uchan, METRO Cash &amp; Carry,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Пятерочка, Копей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ложен документ о включении вопроса верификации в стандартный договор с поставщ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абрь 2003 г. - январь 2004 г. – согласование и выработка дальнейшей программы действий с руководителями ритейле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с) 2003 ААИ ЮНИСКА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FB8A-0285-4B18-BEC9-9B6BD708E6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1:32:09Z</dcterms:created>
  <dc:creator>Philipp Degtjarev</dc:creator>
  <dc:description/>
  <dc:language>en-US</dc:language>
  <cp:lastModifiedBy>Philipp Degtjarev</cp:lastModifiedBy>
  <dcterms:modified xsi:type="dcterms:W3CDTF">2003-11-24T09:50:04Z</dcterms:modified>
  <cp:revision>3</cp:revision>
  <dc:subject/>
  <dc:title>Вопросы верификации штриховых кодов системы EAN.UCC в деятельности ECR Россия  Эксперт ААИ ЮНИСКАН  Дегтярев Ф.Б. Секретариат ECR Россия</dc:title>
</cp:coreProperties>
</file>